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8.gif" ContentType="image/gif"/>
  <Override PartName="/ppt/media/image23.wmf" ContentType="image/x-wmf"/>
  <Override PartName="/ppt/media/Wow2.wav" ContentType="audio/x-wav"/>
  <Override PartName="/ppt/media/image27.gif" ContentType="image/gif"/>
  <Override PartName="/ppt/media/cool.wav" ContentType="audio/x-wav"/>
  <Override PartName="/ppt/media/image4.gif" ContentType="image/gif"/>
  <Override PartName="/ppt/media/image34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bee.wav" ContentType="audio/x-wav"/>
  <Override PartName="/ppt/media/image15.gif" ContentType="image/gif"/>
  <Override PartName="/ppt/media/image14.gif" ContentType="image/gif"/>
  <Override PartName="/ppt/media/image10.wmf" ContentType="image/x-wmf"/>
  <Override PartName="/ppt/media/image13.gif" ContentType="image/gif"/>
  <Override PartName="/ppt/media/image11.gif" ContentType="image/gif"/>
  <Override PartName="/ppt/media/image30.gif" ContentType="image/gif"/>
  <Override PartName="/ppt/media/laugh.wav" ContentType="audio/x-wav"/>
  <Override PartName="/ppt/media/image16.wmf" ContentType="image/x-wmf"/>
  <Override PartName="/ppt/media/image29.gif" ContentType="image/gif"/>
  <Override PartName="/ppt/media/3leafclover.wav" ContentType="audio/x-wav"/>
  <Override PartName="/ppt/media/image31.gif" ContentType="image/gif"/>
  <Override PartName="/ppt/media/image1.gif" ContentType="image/gif"/>
  <Override PartName="/ppt/media/image12.wmf" ContentType="image/x-wmf"/>
  <Override PartName="/ppt/media/image33.gif" ContentType="image/gif"/>
  <Override PartName="/ppt/media/image8.gif" ContentType="image/gif"/>
  <Override PartName="/ppt/media/image19.wmf" ContentType="image/x-wmf"/>
  <Override PartName="/ppt/media/image26.wmf" ContentType="image/x-wmf"/>
  <Override PartName="/ppt/media/image38.jpeg" ContentType="image/jpeg"/>
  <Override PartName="/ppt/media/image35.gif" ContentType="image/gif"/>
  <Override PartName="/ppt/media/image40.png" ContentType="image/png"/>
  <Override PartName="/ppt/media/image6.gif" ContentType="image/gif"/>
  <Override PartName="/ppt/media/image36.gif" ContentType="image/gif"/>
  <Override PartName="/ppt/media/yikes.wav" ContentType="audio/x-wav"/>
  <Override PartName="/ppt/media/image7.png" ContentType="image/png"/>
  <Override PartName="/ppt/media/image3.wmf" ContentType="image/x-wmf"/>
  <Override PartName="/ppt/media/image37.gif" ContentType="image/gif"/>
  <Override PartName="/ppt/media/image39.gif" ContentType="image/gif"/>
  <Override PartName="/ppt/media/image9.gif" ContentType="image/gif"/>
  <Override PartName="/ppt/media/image5.wmf" ContentType="image/x-wmf"/>
  <Override PartName="/ppt/media/image32.gif" ContentType="image/gif"/>
  <Override PartName="/ppt/media/image2.gif" ContentType="image/gif"/>
  <Override PartName="/ppt/media/image21.wmf" ContentType="image/x-wmf"/>
  <Override PartName="/ppt/media/image25.gif" ContentType="image/gif"/>
  <Override PartName="/ppt/media/image22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3697-F0E4-4F4E-A154-F03FCAC2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8C2F-50FD-41A6-BEC1-6E734493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67D4-54FC-41B9-9EB7-C3E8964B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8A57-197A-4A0F-A912-4122D160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486F-B6B1-468D-8951-7B184B70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3B4C-8C0B-4630-A929-4E0D50C7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458F-4FF0-4F0E-87F4-C3A9A1F8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48F8-26BF-4C65-9465-DF8593A6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F4C0-3944-4C04-9E85-266535CA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3FD6-C7ED-4A08-B53B-0CCED38D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6817-1F24-4E30-81EF-4E398D57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E9C6-3F0A-459C-8324-18642B67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19A5-E573-4BA2-9031-39E1E86ED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ee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http://www.rockingham.k12.va.us/resources/elementary/files/SCORE.XLS" TargetMode="External"/><Relationship Id="rId4" Type="http://schemas.openxmlformats.org/officeDocument/2006/relationships/audio" Target="../media/Wow2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hyperlink" Target="http://www.rockingham.k12.va.us/resources/elementary/files/SCORE.XLS" TargetMode="Externa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9.gif"/><Relationship Id="rId3" Type="http://schemas.openxmlformats.org/officeDocument/2006/relationships/hyperlink" Target="http://www.rockingham.k12.va.us/resources/elementary/files/SCORE.XLS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.xml"/><Relationship Id="rId3" Type="http://schemas.openxmlformats.org/officeDocument/2006/relationships/slide" Target="slide3.xml"/><Relationship Id="rId4" Type="http://schemas.openxmlformats.org/officeDocument/2006/relationships/slide" Target=""/><Relationship Id="rId5" Type="http://schemas.openxmlformats.org/officeDocument/2006/relationships/slide" Target="slide9.xml"/><Relationship Id="rId6" Type="http://schemas.openxmlformats.org/officeDocument/2006/relationships/slide" Target=""/><Relationship Id="rId7" Type="http://schemas.openxmlformats.org/officeDocument/2006/relationships/slide" Target="slide12.xml"/><Relationship Id="rId8" Type="http://schemas.openxmlformats.org/officeDocument/2006/relationships/slide" Target="slide18.xml"/><Relationship Id="rId9" Type="http://schemas.openxmlformats.org/officeDocument/2006/relationships/slide" Target="slide21.xml"/><Relationship Id="rId10" Type="http://schemas.openxmlformats.org/officeDocument/2006/relationships/slide" Target="slide24.xml"/><Relationship Id="rId11" Type="http://schemas.openxmlformats.org/officeDocument/2006/relationships/slide" Target="slide27.xml"/><Relationship Id="rId12" Type="http://schemas.openxmlformats.org/officeDocument/2006/relationships/slide" Target="slide33.xml"/><Relationship Id="rId13" Type="http://schemas.openxmlformats.org/officeDocument/2006/relationships/slide" Target="slide36.xml"/><Relationship Id="rId14" Type="http://schemas.openxmlformats.org/officeDocument/2006/relationships/slide" Target="slide39.xml"/><Relationship Id="rId15" Type="http://schemas.openxmlformats.org/officeDocument/2006/relationships/slide" Target="slide42.xml"/><Relationship Id="rId16" Type="http://schemas.openxmlformats.org/officeDocument/2006/relationships/slide" Target="slide48.xml"/><Relationship Id="rId17" Type="http://schemas.openxmlformats.org/officeDocument/2006/relationships/slide" Target="slide51.xml"/><Relationship Id="rId18" Type="http://schemas.openxmlformats.org/officeDocument/2006/relationships/slide" Target="slide54.xml"/><Relationship Id="rId19" Type="http://schemas.openxmlformats.org/officeDocument/2006/relationships/slide" Target="slide57.xml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1.gif"/><Relationship Id="rId3" Type="http://schemas.openxmlformats.org/officeDocument/2006/relationships/hyperlink" Target="http://www.rockingham.k12.va.us/resources/elementary/files/SCORE.XLS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3.gif"/><Relationship Id="rId3" Type="http://schemas.openxmlformats.org/officeDocument/2006/relationships/hyperlink" Target="http://www.rockingham.k12.va.us/resources/elementary/files/SCORE.XLS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5.gif"/><Relationship Id="rId3" Type="http://schemas.openxmlformats.org/officeDocument/2006/relationships/hyperlink" Target="http://www.rockingham.k12.va.us/resources/elementary/files/SCORE.XLS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7.gif"/><Relationship Id="rId3" Type="http://schemas.openxmlformats.org/officeDocument/2006/relationships/hyperlink" Target="http://www.rockingham.k12.va.us/resources/elementary/files/SCORE.XLS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8.gif"/><Relationship Id="rId3" Type="http://schemas.openxmlformats.org/officeDocument/2006/relationships/hyperlink" Target="http://www.rockingham.k12.va.us/resources/elementary/files/SCORE.XLS" TargetMode="External"/><Relationship Id="rId4" Type="http://schemas.openxmlformats.org/officeDocument/2006/relationships/audio" Target="../media/cool.wav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0.gif"/><Relationship Id="rId3" Type="http://schemas.openxmlformats.org/officeDocument/2006/relationships/hyperlink" Target="http://www.rockingham.k12.va.us/resources/elementary/files/SCORE.XLS" TargetMode="Externa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2.gif"/><Relationship Id="rId3" Type="http://schemas.openxmlformats.org/officeDocument/2006/relationships/hyperlink" Target="http://www.rockingham.k12.va.us/resources/elementary/files/score%20by%20Laura%20Leanne.xls" TargetMode="Externa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5.gif"/><Relationship Id="rId3" Type="http://schemas.openxmlformats.org/officeDocument/2006/relationships/hyperlink" Target="http://www.rockingham.k12.va.us/resources/elementary/files/SCORE.XLS" TargetMode="External"/><Relationship Id="rId4" Type="http://schemas.openxmlformats.org/officeDocument/2006/relationships/audio" Target="../media/3leafclover.wav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7.gif"/><Relationship Id="rId3" Type="http://schemas.openxmlformats.org/officeDocument/2006/relationships/hyperlink" Target="http://www.rockingham.k12.va.us/resources/elementary/files/SCORE.XLS" TargetMode="Externa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8.gif"/><Relationship Id="rId3" Type="http://schemas.openxmlformats.org/officeDocument/2006/relationships/hyperlink" Target="http://www.rockingham.k12.va.us/resources/elementary/files/SCORE.XLS" TargetMode="External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http://www.rockingham.k12.va.us/resources/elementary/files/SCORE.XLS" TargetMode="External"/><Relationship Id="rId4" Type="http://schemas.openxmlformats.org/officeDocument/2006/relationships/audio" Target="../media/yikes.wav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9.gif"/><Relationship Id="rId3" Type="http://schemas.openxmlformats.org/officeDocument/2006/relationships/hyperlink" Target="http://www.rockingham.k12.va.us/resources/elementary/files/SCORE.XLS" TargetMode="External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0.gif"/><Relationship Id="rId3" Type="http://schemas.openxmlformats.org/officeDocument/2006/relationships/hyperlink" Target="http://www.rockingham.k12.va.us/resources/elementary/files/SCORE.XLS" TargetMode="External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7.gif"/><Relationship Id="rId3" Type="http://schemas.openxmlformats.org/officeDocument/2006/relationships/image" Target="../media/image38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9.gif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http://www.rockingham.k12.va.us/resources/elementary/files/SCORE.XLS" TargetMode="External"/><Relationship Id="rId4" Type="http://schemas.openxmlformats.org/officeDocument/2006/relationships/audio" Target="../media/laugh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66680" y="1447920"/>
            <a:ext cx="6629400" cy="251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OL Weather 2nd Gra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3794"/>
                </a:moveTo>
                <a:lnTo>
                  <a:pt x="24284" y="10800"/>
                </a:lnTo>
                <a:lnTo>
                  <a:pt x="1027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e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hermometer is a tool used to measure the temperatur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743200" y="11430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81280" y="1600200"/>
            <a:ext cx="2387880" cy="3409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3520" y="22860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ow!  You’re good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ow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228600"/>
            <a:ext cx="5486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USA, our thermometers measure in 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5943600" y="243828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hren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5943600" y="342900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5943600" y="4419720"/>
            <a:ext cx="3200400" cy="99036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69784" h="21600">
                <a:moveTo>
                  <a:pt x="0" y="0"/>
                </a:moveTo>
                <a:lnTo>
                  <a:pt x="69784" y="0"/>
                </a:lnTo>
                <a:lnTo>
                  <a:pt x="69784" y="21600"/>
                </a:lnTo>
                <a:lnTo>
                  <a:pt x="0" y="21600"/>
                </a:lnTo>
                <a:close/>
              </a:path>
              <a:path fill="lightenLess" w="69784" h="21600">
                <a:moveTo>
                  <a:pt x="0" y="0"/>
                </a:moveTo>
                <a:lnTo>
                  <a:pt x="69784" y="0"/>
                </a:lnTo>
                <a:lnTo>
                  <a:pt x="68384" y="1400"/>
                </a:lnTo>
                <a:lnTo>
                  <a:pt x="1400" y="1400"/>
                </a:lnTo>
                <a:close/>
              </a:path>
              <a:path fill="darken" w="69784" h="21600">
                <a:moveTo>
                  <a:pt x="69784" y="0"/>
                </a:moveTo>
                <a:lnTo>
                  <a:pt x="69784" y="21600"/>
                </a:lnTo>
                <a:lnTo>
                  <a:pt x="68384" y="20200"/>
                </a:lnTo>
                <a:lnTo>
                  <a:pt x="68384" y="1400"/>
                </a:lnTo>
                <a:close/>
              </a:path>
              <a:path fill="darkenLess" w="69784" h="21600">
                <a:moveTo>
                  <a:pt x="69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84" y="20200"/>
                </a:lnTo>
                <a:close/>
              </a:path>
              <a:path fill="lighten" w="69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5943600" y="1447920"/>
            <a:ext cx="3200400" cy="99036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69784" h="21600">
                <a:moveTo>
                  <a:pt x="0" y="0"/>
                </a:moveTo>
                <a:lnTo>
                  <a:pt x="69784" y="0"/>
                </a:lnTo>
                <a:lnTo>
                  <a:pt x="69784" y="21600"/>
                </a:lnTo>
                <a:lnTo>
                  <a:pt x="0" y="21600"/>
                </a:lnTo>
                <a:close/>
              </a:path>
              <a:path fill="lightenLess" w="69784" h="21600">
                <a:moveTo>
                  <a:pt x="0" y="0"/>
                </a:moveTo>
                <a:lnTo>
                  <a:pt x="69784" y="0"/>
                </a:lnTo>
                <a:lnTo>
                  <a:pt x="68384" y="1400"/>
                </a:lnTo>
                <a:lnTo>
                  <a:pt x="1400" y="1400"/>
                </a:lnTo>
                <a:close/>
              </a:path>
              <a:path fill="darken" w="69784" h="21600">
                <a:moveTo>
                  <a:pt x="69784" y="0"/>
                </a:moveTo>
                <a:lnTo>
                  <a:pt x="69784" y="21600"/>
                </a:lnTo>
                <a:lnTo>
                  <a:pt x="68384" y="20200"/>
                </a:lnTo>
                <a:lnTo>
                  <a:pt x="68384" y="1400"/>
                </a:lnTo>
                <a:close/>
              </a:path>
              <a:path fill="darkenLess" w="69784" h="21600">
                <a:moveTo>
                  <a:pt x="69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84" y="20200"/>
                </a:lnTo>
                <a:close/>
              </a:path>
              <a:path fill="lighten" w="69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Celci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09680" y="457200"/>
            <a:ext cx="5486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the USA, our thermometers measure i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ahrenheit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7010280" y="5105520"/>
            <a:ext cx="1752840" cy="1752480"/>
          </a:xfrm>
          <a:custGeom>
            <a:avLst/>
            <a:gdLst>
              <a:gd name="textAreaLeft" fmla="*/ 113400 w 1752840"/>
              <a:gd name="textAreaRight" fmla="*/ 1639440 w 175284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4" h="21600">
                <a:moveTo>
                  <a:pt x="0" y="0"/>
                </a:moveTo>
                <a:lnTo>
                  <a:pt x="21604" y="0"/>
                </a:lnTo>
                <a:lnTo>
                  <a:pt x="21604" y="21600"/>
                </a:lnTo>
                <a:lnTo>
                  <a:pt x="0" y="21600"/>
                </a:lnTo>
                <a:close/>
              </a:path>
              <a:path fill="lightenLess" w="21604" h="21600">
                <a:moveTo>
                  <a:pt x="0" y="0"/>
                </a:moveTo>
                <a:lnTo>
                  <a:pt x="21604" y="0"/>
                </a:lnTo>
                <a:lnTo>
                  <a:pt x="20204" y="1400"/>
                </a:lnTo>
                <a:lnTo>
                  <a:pt x="1400" y="1400"/>
                </a:lnTo>
                <a:close/>
              </a:path>
              <a:path fill="darken" w="21604" h="21600">
                <a:moveTo>
                  <a:pt x="21604" y="0"/>
                </a:moveTo>
                <a:lnTo>
                  <a:pt x="21604" y="21600"/>
                </a:lnTo>
                <a:lnTo>
                  <a:pt x="20204" y="20200"/>
                </a:lnTo>
                <a:lnTo>
                  <a:pt x="20204" y="1400"/>
                </a:lnTo>
                <a:close/>
              </a:path>
              <a:path fill="darkenLess" w="21604" h="21600">
                <a:moveTo>
                  <a:pt x="216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4" y="20200"/>
                </a:lnTo>
                <a:close/>
              </a:path>
              <a:path fill="lighten" w="216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4" h="21600">
                <a:moveTo>
                  <a:pt x="10802" y="3837"/>
                </a:moveTo>
                <a:lnTo>
                  <a:pt x="13379" y="6448"/>
                </a:lnTo>
                <a:lnTo>
                  <a:pt x="13379" y="4707"/>
                </a:lnTo>
                <a:lnTo>
                  <a:pt x="15154" y="4707"/>
                </a:lnTo>
                <a:lnTo>
                  <a:pt x="15154" y="8224"/>
                </a:lnTo>
                <a:lnTo>
                  <a:pt x="17765" y="10800"/>
                </a:lnTo>
                <a:lnTo>
                  <a:pt x="16111" y="10800"/>
                </a:lnTo>
                <a:lnTo>
                  <a:pt x="16111" y="17989"/>
                </a:lnTo>
                <a:lnTo>
                  <a:pt x="5493" y="17989"/>
                </a:lnTo>
                <a:lnTo>
                  <a:pt x="5493" y="10800"/>
                </a:lnTo>
                <a:lnTo>
                  <a:pt x="3839" y="10800"/>
                </a:lnTo>
                <a:close/>
              </a:path>
              <a:path fill="darkenLess" w="21604" h="21600">
                <a:moveTo>
                  <a:pt x="13379" y="6448"/>
                </a:moveTo>
                <a:lnTo>
                  <a:pt x="13379" y="4707"/>
                </a:lnTo>
                <a:lnTo>
                  <a:pt x="15154" y="4707"/>
                </a:lnTo>
                <a:lnTo>
                  <a:pt x="15154" y="8224"/>
                </a:lnTo>
                <a:close/>
              </a:path>
              <a:path fill="darkenLess" w="21604" h="21600">
                <a:moveTo>
                  <a:pt x="9880" y="14299"/>
                </a:moveTo>
                <a:lnTo>
                  <a:pt x="11725" y="14299"/>
                </a:lnTo>
                <a:lnTo>
                  <a:pt x="11725" y="17989"/>
                </a:lnTo>
                <a:lnTo>
                  <a:pt x="16111" y="17989"/>
                </a:lnTo>
                <a:lnTo>
                  <a:pt x="16111" y="10800"/>
                </a:lnTo>
                <a:lnTo>
                  <a:pt x="5493" y="10800"/>
                </a:lnTo>
                <a:lnTo>
                  <a:pt x="5493" y="17989"/>
                </a:lnTo>
                <a:lnTo>
                  <a:pt x="9880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438280" y="220968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3733920" y="5029200"/>
            <a:ext cx="2361960" cy="1828800"/>
          </a:xfrm>
          <a:custGeom>
            <a:avLst/>
            <a:gdLst>
              <a:gd name="textAreaLeft" fmla="*/ 118440 w 2361960"/>
              <a:gd name="textAreaRight" fmla="*/ 2243520 w 236196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896" h="21600">
                <a:moveTo>
                  <a:pt x="0" y="0"/>
                </a:moveTo>
                <a:lnTo>
                  <a:pt x="27896" y="0"/>
                </a:lnTo>
                <a:lnTo>
                  <a:pt x="27896" y="21600"/>
                </a:lnTo>
                <a:lnTo>
                  <a:pt x="0" y="21600"/>
                </a:lnTo>
                <a:close/>
              </a:path>
              <a:path fill="lightenLess" w="27896" h="21600">
                <a:moveTo>
                  <a:pt x="0" y="0"/>
                </a:moveTo>
                <a:lnTo>
                  <a:pt x="27896" y="0"/>
                </a:lnTo>
                <a:lnTo>
                  <a:pt x="26496" y="1400"/>
                </a:lnTo>
                <a:lnTo>
                  <a:pt x="1400" y="1400"/>
                </a:lnTo>
                <a:close/>
              </a:path>
              <a:path fill="darken" w="27896" h="21600">
                <a:moveTo>
                  <a:pt x="27896" y="0"/>
                </a:moveTo>
                <a:lnTo>
                  <a:pt x="27896" y="21600"/>
                </a:lnTo>
                <a:lnTo>
                  <a:pt x="26496" y="20200"/>
                </a:lnTo>
                <a:lnTo>
                  <a:pt x="26496" y="1400"/>
                </a:lnTo>
                <a:close/>
              </a:path>
              <a:path fill="darkenLess" w="27896" h="21600">
                <a:moveTo>
                  <a:pt x="27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96" y="20200"/>
                </a:lnTo>
                <a:close/>
              </a:path>
              <a:path fill="lighten" w="27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96" h="21600">
                <a:moveTo>
                  <a:pt x="13948" y="3837"/>
                </a:moveTo>
                <a:lnTo>
                  <a:pt x="16524" y="6448"/>
                </a:lnTo>
                <a:lnTo>
                  <a:pt x="16524" y="4707"/>
                </a:lnTo>
                <a:lnTo>
                  <a:pt x="18300" y="4707"/>
                </a:lnTo>
                <a:lnTo>
                  <a:pt x="18300" y="8224"/>
                </a:lnTo>
                <a:lnTo>
                  <a:pt x="20911" y="10800"/>
                </a:lnTo>
                <a:lnTo>
                  <a:pt x="19257" y="10800"/>
                </a:lnTo>
                <a:lnTo>
                  <a:pt x="19257" y="17989"/>
                </a:lnTo>
                <a:lnTo>
                  <a:pt x="8639" y="17989"/>
                </a:lnTo>
                <a:lnTo>
                  <a:pt x="8639" y="10800"/>
                </a:lnTo>
                <a:lnTo>
                  <a:pt x="6985" y="10800"/>
                </a:lnTo>
                <a:close/>
              </a:path>
              <a:path fill="darkenLess" w="27896" h="21600">
                <a:moveTo>
                  <a:pt x="16524" y="6448"/>
                </a:moveTo>
                <a:lnTo>
                  <a:pt x="16524" y="4707"/>
                </a:lnTo>
                <a:lnTo>
                  <a:pt x="18300" y="4707"/>
                </a:lnTo>
                <a:lnTo>
                  <a:pt x="18300" y="8224"/>
                </a:lnTo>
                <a:close/>
              </a:path>
              <a:path fill="darkenLess" w="27896" h="21600">
                <a:moveTo>
                  <a:pt x="13025" y="14299"/>
                </a:moveTo>
                <a:lnTo>
                  <a:pt x="14871" y="14299"/>
                </a:lnTo>
                <a:lnTo>
                  <a:pt x="14871" y="17989"/>
                </a:lnTo>
                <a:lnTo>
                  <a:pt x="19257" y="17989"/>
                </a:lnTo>
                <a:lnTo>
                  <a:pt x="19257" y="10800"/>
                </a:lnTo>
                <a:lnTo>
                  <a:pt x="8639" y="10800"/>
                </a:lnTo>
                <a:lnTo>
                  <a:pt x="8639" y="17989"/>
                </a:lnTo>
                <a:lnTo>
                  <a:pt x="13025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 rot="1629000">
            <a:off x="17640" y="1980720"/>
            <a:ext cx="9144000" cy="1113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I don't know how I could have did doubted you!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0" y="2438280"/>
            <a:ext cx="3371760" cy="2757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5772240" y="0"/>
            <a:ext cx="3371760" cy="275760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6"/>
          </p:cNvPr>
          <p:cNvSpPr/>
          <p:nvPr/>
        </p:nvSpPr>
        <p:spPr>
          <a:xfrm>
            <a:off x="4267080" y="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76212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5 Topic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5943600" y="243828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5943600" y="342900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5943600" y="4419720"/>
            <a:ext cx="3200400" cy="99036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69784" h="21600">
                <a:moveTo>
                  <a:pt x="0" y="0"/>
                </a:moveTo>
                <a:lnTo>
                  <a:pt x="69784" y="0"/>
                </a:lnTo>
                <a:lnTo>
                  <a:pt x="69784" y="21600"/>
                </a:lnTo>
                <a:lnTo>
                  <a:pt x="0" y="21600"/>
                </a:lnTo>
                <a:close/>
              </a:path>
              <a:path fill="lightenLess" w="69784" h="21600">
                <a:moveTo>
                  <a:pt x="0" y="0"/>
                </a:moveTo>
                <a:lnTo>
                  <a:pt x="69784" y="0"/>
                </a:lnTo>
                <a:lnTo>
                  <a:pt x="68384" y="1400"/>
                </a:lnTo>
                <a:lnTo>
                  <a:pt x="1400" y="1400"/>
                </a:lnTo>
                <a:close/>
              </a:path>
              <a:path fill="darken" w="69784" h="21600">
                <a:moveTo>
                  <a:pt x="69784" y="0"/>
                </a:moveTo>
                <a:lnTo>
                  <a:pt x="69784" y="21600"/>
                </a:lnTo>
                <a:lnTo>
                  <a:pt x="68384" y="20200"/>
                </a:lnTo>
                <a:lnTo>
                  <a:pt x="68384" y="1400"/>
                </a:lnTo>
                <a:close/>
              </a:path>
              <a:path fill="darkenLess" w="69784" h="21600">
                <a:moveTo>
                  <a:pt x="69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84" y="20200"/>
                </a:lnTo>
                <a:close/>
              </a:path>
              <a:path fill="lighten" w="69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5943600" y="1447920"/>
            <a:ext cx="3200400" cy="99036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69784" h="21600">
                <a:moveTo>
                  <a:pt x="0" y="0"/>
                </a:moveTo>
                <a:lnTo>
                  <a:pt x="69784" y="0"/>
                </a:lnTo>
                <a:lnTo>
                  <a:pt x="69784" y="21600"/>
                </a:lnTo>
                <a:lnTo>
                  <a:pt x="0" y="21600"/>
                </a:lnTo>
                <a:close/>
              </a:path>
              <a:path fill="lightenLess" w="69784" h="21600">
                <a:moveTo>
                  <a:pt x="0" y="0"/>
                </a:moveTo>
                <a:lnTo>
                  <a:pt x="69784" y="0"/>
                </a:lnTo>
                <a:lnTo>
                  <a:pt x="68384" y="1400"/>
                </a:lnTo>
                <a:lnTo>
                  <a:pt x="1400" y="1400"/>
                </a:lnTo>
                <a:close/>
              </a:path>
              <a:path fill="darken" w="69784" h="21600">
                <a:moveTo>
                  <a:pt x="69784" y="0"/>
                </a:moveTo>
                <a:lnTo>
                  <a:pt x="69784" y="21600"/>
                </a:lnTo>
                <a:lnTo>
                  <a:pt x="68384" y="20200"/>
                </a:lnTo>
                <a:lnTo>
                  <a:pt x="68384" y="1400"/>
                </a:lnTo>
                <a:close/>
              </a:path>
              <a:path fill="darkenLess" w="69784" h="21600">
                <a:moveTo>
                  <a:pt x="69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84" y="20200"/>
                </a:lnTo>
                <a:close/>
              </a:path>
              <a:path fill="lighten" w="69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Corr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45720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5 Topic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762120"/>
            <a:ext cx="841068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esar"/>
              </a:rPr>
              <a:t>Being a genius certaintly has its advantages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esar"/>
              <a:ea typeface="Caesar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429000" y="2057400"/>
            <a:ext cx="2370240" cy="272088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1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4572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storm where there is a lot of snow that may be blown into snow drifts is called a 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6248520" y="167652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Blizz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6248520" y="43434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Hurric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6248520" y="34290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Tor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6248520" y="25146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Thunderst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380880"/>
            <a:ext cx="79246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orm where there is a lot of snow that may be blown into snow drifts is called a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blizzar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739152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914400" y="2585880"/>
            <a:ext cx="5283360" cy="4272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oudy Heavyface"/>
              </a:rPr>
              <a:t>SOL Weather Jeopar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2438640" cy="990360"/>
          </a:xfrm>
          <a:custGeom>
            <a:avLst/>
            <a:gdLst>
              <a:gd name="textAreaLeft" fmla="*/ 64080 w 2438640"/>
              <a:gd name="textAreaRight" fmla="*/ 2374560 w 24386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53176" h="21600">
                <a:moveTo>
                  <a:pt x="0" y="0"/>
                </a:moveTo>
                <a:lnTo>
                  <a:pt x="53176" y="0"/>
                </a:lnTo>
                <a:lnTo>
                  <a:pt x="53176" y="21600"/>
                </a:lnTo>
                <a:lnTo>
                  <a:pt x="0" y="21600"/>
                </a:lnTo>
                <a:close/>
              </a:path>
              <a:path fill="lightenLess" w="53176" h="21600">
                <a:moveTo>
                  <a:pt x="0" y="0"/>
                </a:moveTo>
                <a:lnTo>
                  <a:pt x="53176" y="0"/>
                </a:lnTo>
                <a:lnTo>
                  <a:pt x="51776" y="1400"/>
                </a:lnTo>
                <a:lnTo>
                  <a:pt x="1400" y="1400"/>
                </a:lnTo>
                <a:close/>
              </a:path>
              <a:path fill="darken" w="53176" h="21600">
                <a:moveTo>
                  <a:pt x="53176" y="0"/>
                </a:moveTo>
                <a:lnTo>
                  <a:pt x="53176" y="21600"/>
                </a:lnTo>
                <a:lnTo>
                  <a:pt x="51776" y="20200"/>
                </a:lnTo>
                <a:lnTo>
                  <a:pt x="51776" y="1400"/>
                </a:lnTo>
                <a:close/>
              </a:path>
              <a:path fill="darkenLess" w="53176" h="21600">
                <a:moveTo>
                  <a:pt x="53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76" y="20200"/>
                </a:lnTo>
                <a:close/>
              </a:path>
              <a:path fill="lighten" w="53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Instr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8120" y="990720"/>
            <a:ext cx="1676160" cy="99036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52" h="21600">
                <a:moveTo>
                  <a:pt x="0" y="0"/>
                </a:moveTo>
                <a:lnTo>
                  <a:pt x="36552" y="0"/>
                </a:lnTo>
                <a:lnTo>
                  <a:pt x="36552" y="21600"/>
                </a:lnTo>
                <a:lnTo>
                  <a:pt x="0" y="21600"/>
                </a:lnTo>
                <a:close/>
              </a:path>
              <a:path fill="lightenLess" w="36552" h="21600">
                <a:moveTo>
                  <a:pt x="0" y="0"/>
                </a:moveTo>
                <a:lnTo>
                  <a:pt x="36552" y="0"/>
                </a:lnTo>
                <a:lnTo>
                  <a:pt x="35152" y="1400"/>
                </a:lnTo>
                <a:lnTo>
                  <a:pt x="1400" y="1400"/>
                </a:lnTo>
                <a:close/>
              </a:path>
              <a:path fill="darken" w="36552" h="21600">
                <a:moveTo>
                  <a:pt x="36552" y="0"/>
                </a:moveTo>
                <a:lnTo>
                  <a:pt x="36552" y="21600"/>
                </a:lnTo>
                <a:lnTo>
                  <a:pt x="35152" y="20200"/>
                </a:lnTo>
                <a:lnTo>
                  <a:pt x="35152" y="1400"/>
                </a:lnTo>
                <a:close/>
              </a:path>
              <a:path fill="darkenLess" w="36552" h="21600">
                <a:moveTo>
                  <a:pt x="36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52" y="20200"/>
                </a:lnTo>
                <a:close/>
              </a:path>
              <a:path fill="lighten" w="36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St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990720"/>
            <a:ext cx="1447920" cy="99036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76" h="21600">
                <a:moveTo>
                  <a:pt x="0" y="0"/>
                </a:moveTo>
                <a:lnTo>
                  <a:pt x="31576" y="0"/>
                </a:lnTo>
                <a:lnTo>
                  <a:pt x="31576" y="21600"/>
                </a:lnTo>
                <a:lnTo>
                  <a:pt x="0" y="21600"/>
                </a:lnTo>
                <a:close/>
              </a:path>
              <a:path fill="lightenLess" w="31576" h="21600">
                <a:moveTo>
                  <a:pt x="0" y="0"/>
                </a:moveTo>
                <a:lnTo>
                  <a:pt x="31576" y="0"/>
                </a:lnTo>
                <a:lnTo>
                  <a:pt x="30176" y="1400"/>
                </a:lnTo>
                <a:lnTo>
                  <a:pt x="1400" y="1400"/>
                </a:lnTo>
                <a:close/>
              </a:path>
              <a:path fill="darken" w="31576" h="21600">
                <a:moveTo>
                  <a:pt x="31576" y="0"/>
                </a:moveTo>
                <a:lnTo>
                  <a:pt x="31576" y="21600"/>
                </a:lnTo>
                <a:lnTo>
                  <a:pt x="30176" y="20200"/>
                </a:lnTo>
                <a:lnTo>
                  <a:pt x="30176" y="1400"/>
                </a:lnTo>
                <a:close/>
              </a:path>
              <a:path fill="darkenLess" w="31576" h="21600">
                <a:moveTo>
                  <a:pt x="31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76" y="20200"/>
                </a:lnTo>
                <a:close/>
              </a:path>
              <a:path fill="lighten" w="31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990720"/>
            <a:ext cx="2133720" cy="99036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6528" h="21600">
                <a:moveTo>
                  <a:pt x="0" y="0"/>
                </a:moveTo>
                <a:lnTo>
                  <a:pt x="46528" y="0"/>
                </a:lnTo>
                <a:lnTo>
                  <a:pt x="46528" y="21600"/>
                </a:lnTo>
                <a:lnTo>
                  <a:pt x="0" y="21600"/>
                </a:lnTo>
                <a:close/>
              </a:path>
              <a:path fill="lightenLess" w="46528" h="21600">
                <a:moveTo>
                  <a:pt x="0" y="0"/>
                </a:moveTo>
                <a:lnTo>
                  <a:pt x="46528" y="0"/>
                </a:lnTo>
                <a:lnTo>
                  <a:pt x="45128" y="1400"/>
                </a:lnTo>
                <a:lnTo>
                  <a:pt x="1400" y="1400"/>
                </a:lnTo>
                <a:close/>
              </a:path>
              <a:path fill="darken" w="46528" h="21600">
                <a:moveTo>
                  <a:pt x="46528" y="0"/>
                </a:moveTo>
                <a:lnTo>
                  <a:pt x="46528" y="21600"/>
                </a:lnTo>
                <a:lnTo>
                  <a:pt x="45128" y="20200"/>
                </a:lnTo>
                <a:lnTo>
                  <a:pt x="45128" y="1400"/>
                </a:lnTo>
                <a:close/>
              </a:path>
              <a:path fill="darkenLess" w="46528" h="21600">
                <a:moveTo>
                  <a:pt x="465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28" y="20200"/>
                </a:lnTo>
                <a:close/>
              </a:path>
              <a:path fill="lighten" w="465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609480" y="2971800"/>
            <a:ext cx="2438640" cy="990720"/>
          </a:xfrm>
          <a:custGeom>
            <a:avLst/>
            <a:gdLst>
              <a:gd name="textAreaLeft" fmla="*/ 64080 w 2438640"/>
              <a:gd name="textAreaRight" fmla="*/ 2374560 w 2438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3157" h="21600">
                <a:moveTo>
                  <a:pt x="0" y="0"/>
                </a:moveTo>
                <a:lnTo>
                  <a:pt x="53157" y="0"/>
                </a:lnTo>
                <a:lnTo>
                  <a:pt x="53157" y="21600"/>
                </a:lnTo>
                <a:lnTo>
                  <a:pt x="0" y="21600"/>
                </a:lnTo>
                <a:close/>
              </a:path>
              <a:path fill="lightenLess" w="53157" h="21600">
                <a:moveTo>
                  <a:pt x="0" y="0"/>
                </a:moveTo>
                <a:lnTo>
                  <a:pt x="53157" y="0"/>
                </a:lnTo>
                <a:lnTo>
                  <a:pt x="51757" y="1400"/>
                </a:lnTo>
                <a:lnTo>
                  <a:pt x="1400" y="1400"/>
                </a:lnTo>
                <a:close/>
              </a:path>
              <a:path fill="darken" w="53157" h="21600">
                <a:moveTo>
                  <a:pt x="53157" y="0"/>
                </a:moveTo>
                <a:lnTo>
                  <a:pt x="53157" y="21600"/>
                </a:lnTo>
                <a:lnTo>
                  <a:pt x="51757" y="20200"/>
                </a:lnTo>
                <a:lnTo>
                  <a:pt x="51757" y="1400"/>
                </a:lnTo>
                <a:close/>
              </a:path>
              <a:path fill="darkenLess" w="53157" h="21600">
                <a:moveTo>
                  <a:pt x="5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57" y="20200"/>
                </a:lnTo>
                <a:close/>
              </a:path>
              <a:path fill="lighten" w="5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09480" y="1981080"/>
            <a:ext cx="2438640" cy="990720"/>
          </a:xfrm>
          <a:custGeom>
            <a:avLst/>
            <a:gdLst>
              <a:gd name="textAreaLeft" fmla="*/ 64080 w 2438640"/>
              <a:gd name="textAreaRight" fmla="*/ 2374560 w 2438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3157" h="21600">
                <a:moveTo>
                  <a:pt x="0" y="0"/>
                </a:moveTo>
                <a:lnTo>
                  <a:pt x="53157" y="0"/>
                </a:lnTo>
                <a:lnTo>
                  <a:pt x="53157" y="21600"/>
                </a:lnTo>
                <a:lnTo>
                  <a:pt x="0" y="21600"/>
                </a:lnTo>
                <a:close/>
              </a:path>
              <a:path fill="lightenLess" w="53157" h="21600">
                <a:moveTo>
                  <a:pt x="0" y="0"/>
                </a:moveTo>
                <a:lnTo>
                  <a:pt x="53157" y="0"/>
                </a:lnTo>
                <a:lnTo>
                  <a:pt x="51757" y="1400"/>
                </a:lnTo>
                <a:lnTo>
                  <a:pt x="1400" y="1400"/>
                </a:lnTo>
                <a:close/>
              </a:path>
              <a:path fill="darken" w="53157" h="21600">
                <a:moveTo>
                  <a:pt x="53157" y="0"/>
                </a:moveTo>
                <a:lnTo>
                  <a:pt x="53157" y="21600"/>
                </a:lnTo>
                <a:lnTo>
                  <a:pt x="51757" y="20200"/>
                </a:lnTo>
                <a:lnTo>
                  <a:pt x="51757" y="1400"/>
                </a:lnTo>
                <a:close/>
              </a:path>
              <a:path fill="darkenLess" w="53157" h="21600">
                <a:moveTo>
                  <a:pt x="5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57" y="20200"/>
                </a:lnTo>
                <a:close/>
              </a:path>
              <a:path fill="lighten" w="5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609480" y="3962520"/>
            <a:ext cx="2438640" cy="990360"/>
          </a:xfrm>
          <a:custGeom>
            <a:avLst/>
            <a:gdLst>
              <a:gd name="textAreaLeft" fmla="*/ 64080 w 2438640"/>
              <a:gd name="textAreaRight" fmla="*/ 2374560 w 24386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53176" h="21600">
                <a:moveTo>
                  <a:pt x="0" y="0"/>
                </a:moveTo>
                <a:lnTo>
                  <a:pt x="53176" y="0"/>
                </a:lnTo>
                <a:lnTo>
                  <a:pt x="53176" y="21600"/>
                </a:lnTo>
                <a:lnTo>
                  <a:pt x="0" y="21600"/>
                </a:lnTo>
                <a:close/>
              </a:path>
              <a:path fill="lightenLess" w="53176" h="21600">
                <a:moveTo>
                  <a:pt x="0" y="0"/>
                </a:moveTo>
                <a:lnTo>
                  <a:pt x="53176" y="0"/>
                </a:lnTo>
                <a:lnTo>
                  <a:pt x="51776" y="1400"/>
                </a:lnTo>
                <a:lnTo>
                  <a:pt x="1400" y="1400"/>
                </a:lnTo>
                <a:close/>
              </a:path>
              <a:path fill="darken" w="53176" h="21600">
                <a:moveTo>
                  <a:pt x="53176" y="0"/>
                </a:moveTo>
                <a:lnTo>
                  <a:pt x="53176" y="21600"/>
                </a:lnTo>
                <a:lnTo>
                  <a:pt x="51776" y="20200"/>
                </a:lnTo>
                <a:lnTo>
                  <a:pt x="51776" y="1400"/>
                </a:lnTo>
                <a:close/>
              </a:path>
              <a:path fill="darkenLess" w="53176" h="21600">
                <a:moveTo>
                  <a:pt x="53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76" y="20200"/>
                </a:lnTo>
                <a:close/>
              </a:path>
              <a:path fill="lighten" w="53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6" action="ppaction://hlinksldjump"/>
          </p:cNvPr>
          <p:cNvSpPr/>
          <p:nvPr/>
        </p:nvSpPr>
        <p:spPr>
          <a:xfrm>
            <a:off x="609480" y="4952880"/>
            <a:ext cx="2438640" cy="990720"/>
          </a:xfrm>
          <a:custGeom>
            <a:avLst/>
            <a:gdLst>
              <a:gd name="textAreaLeft" fmla="*/ 64080 w 2438640"/>
              <a:gd name="textAreaRight" fmla="*/ 2374560 w 2438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3157" h="21600">
                <a:moveTo>
                  <a:pt x="0" y="0"/>
                </a:moveTo>
                <a:lnTo>
                  <a:pt x="53157" y="0"/>
                </a:lnTo>
                <a:lnTo>
                  <a:pt x="53157" y="21600"/>
                </a:lnTo>
                <a:lnTo>
                  <a:pt x="0" y="21600"/>
                </a:lnTo>
                <a:close/>
              </a:path>
              <a:path fill="lightenLess" w="53157" h="21600">
                <a:moveTo>
                  <a:pt x="0" y="0"/>
                </a:moveTo>
                <a:lnTo>
                  <a:pt x="53157" y="0"/>
                </a:lnTo>
                <a:lnTo>
                  <a:pt x="51757" y="1400"/>
                </a:lnTo>
                <a:lnTo>
                  <a:pt x="1400" y="1400"/>
                </a:lnTo>
                <a:close/>
              </a:path>
              <a:path fill="darken" w="53157" h="21600">
                <a:moveTo>
                  <a:pt x="53157" y="0"/>
                </a:moveTo>
                <a:lnTo>
                  <a:pt x="53157" y="21600"/>
                </a:lnTo>
                <a:lnTo>
                  <a:pt x="51757" y="20200"/>
                </a:lnTo>
                <a:lnTo>
                  <a:pt x="51757" y="1400"/>
                </a:lnTo>
                <a:close/>
              </a:path>
              <a:path fill="darkenLess" w="53157" h="21600">
                <a:moveTo>
                  <a:pt x="5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57" y="20200"/>
                </a:lnTo>
                <a:close/>
              </a:path>
              <a:path fill="lighten" w="5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1981080"/>
            <a:ext cx="1676160" cy="99072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39" h="21600">
                <a:moveTo>
                  <a:pt x="0" y="0"/>
                </a:moveTo>
                <a:lnTo>
                  <a:pt x="36539" y="0"/>
                </a:lnTo>
                <a:lnTo>
                  <a:pt x="36539" y="21600"/>
                </a:lnTo>
                <a:lnTo>
                  <a:pt x="0" y="21600"/>
                </a:lnTo>
                <a:close/>
              </a:path>
              <a:path fill="lightenLess" w="36539" h="21600">
                <a:moveTo>
                  <a:pt x="0" y="0"/>
                </a:moveTo>
                <a:lnTo>
                  <a:pt x="36539" y="0"/>
                </a:lnTo>
                <a:lnTo>
                  <a:pt x="35139" y="1400"/>
                </a:lnTo>
                <a:lnTo>
                  <a:pt x="1400" y="1400"/>
                </a:lnTo>
                <a:close/>
              </a:path>
              <a:path fill="darken" w="36539" h="21600">
                <a:moveTo>
                  <a:pt x="36539" y="0"/>
                </a:moveTo>
                <a:lnTo>
                  <a:pt x="36539" y="21600"/>
                </a:lnTo>
                <a:lnTo>
                  <a:pt x="35139" y="20200"/>
                </a:lnTo>
                <a:lnTo>
                  <a:pt x="35139" y="1400"/>
                </a:lnTo>
                <a:close/>
              </a:path>
              <a:path fill="darkenLess" w="36539" h="21600">
                <a:moveTo>
                  <a:pt x="36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39" y="20200"/>
                </a:lnTo>
                <a:close/>
              </a:path>
              <a:path fill="lighten" w="36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2971800"/>
            <a:ext cx="1676160" cy="99072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39" h="21600">
                <a:moveTo>
                  <a:pt x="0" y="0"/>
                </a:moveTo>
                <a:lnTo>
                  <a:pt x="36539" y="0"/>
                </a:lnTo>
                <a:lnTo>
                  <a:pt x="36539" y="21600"/>
                </a:lnTo>
                <a:lnTo>
                  <a:pt x="0" y="21600"/>
                </a:lnTo>
                <a:close/>
              </a:path>
              <a:path fill="lightenLess" w="36539" h="21600">
                <a:moveTo>
                  <a:pt x="0" y="0"/>
                </a:moveTo>
                <a:lnTo>
                  <a:pt x="36539" y="0"/>
                </a:lnTo>
                <a:lnTo>
                  <a:pt x="35139" y="1400"/>
                </a:lnTo>
                <a:lnTo>
                  <a:pt x="1400" y="1400"/>
                </a:lnTo>
                <a:close/>
              </a:path>
              <a:path fill="darken" w="36539" h="21600">
                <a:moveTo>
                  <a:pt x="36539" y="0"/>
                </a:moveTo>
                <a:lnTo>
                  <a:pt x="36539" y="21600"/>
                </a:lnTo>
                <a:lnTo>
                  <a:pt x="35139" y="20200"/>
                </a:lnTo>
                <a:lnTo>
                  <a:pt x="35139" y="1400"/>
                </a:lnTo>
                <a:close/>
              </a:path>
              <a:path fill="darkenLess" w="36539" h="21600">
                <a:moveTo>
                  <a:pt x="36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39" y="20200"/>
                </a:lnTo>
                <a:close/>
              </a:path>
              <a:path fill="lighten" w="36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3962520"/>
            <a:ext cx="1676160" cy="99036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52" h="21600">
                <a:moveTo>
                  <a:pt x="0" y="0"/>
                </a:moveTo>
                <a:lnTo>
                  <a:pt x="36552" y="0"/>
                </a:lnTo>
                <a:lnTo>
                  <a:pt x="36552" y="21600"/>
                </a:lnTo>
                <a:lnTo>
                  <a:pt x="0" y="21600"/>
                </a:lnTo>
                <a:close/>
              </a:path>
              <a:path fill="lightenLess" w="36552" h="21600">
                <a:moveTo>
                  <a:pt x="0" y="0"/>
                </a:moveTo>
                <a:lnTo>
                  <a:pt x="36552" y="0"/>
                </a:lnTo>
                <a:lnTo>
                  <a:pt x="35152" y="1400"/>
                </a:lnTo>
                <a:lnTo>
                  <a:pt x="1400" y="1400"/>
                </a:lnTo>
                <a:close/>
              </a:path>
              <a:path fill="darken" w="36552" h="21600">
                <a:moveTo>
                  <a:pt x="36552" y="0"/>
                </a:moveTo>
                <a:lnTo>
                  <a:pt x="36552" y="21600"/>
                </a:lnTo>
                <a:lnTo>
                  <a:pt x="35152" y="20200"/>
                </a:lnTo>
                <a:lnTo>
                  <a:pt x="35152" y="1400"/>
                </a:lnTo>
                <a:close/>
              </a:path>
              <a:path fill="darkenLess" w="36552" h="21600">
                <a:moveTo>
                  <a:pt x="36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52" y="20200"/>
                </a:lnTo>
                <a:close/>
              </a:path>
              <a:path fill="lighten" w="36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4952880"/>
            <a:ext cx="1676160" cy="99072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39" h="21600">
                <a:moveTo>
                  <a:pt x="0" y="0"/>
                </a:moveTo>
                <a:lnTo>
                  <a:pt x="36539" y="0"/>
                </a:lnTo>
                <a:lnTo>
                  <a:pt x="36539" y="21600"/>
                </a:lnTo>
                <a:lnTo>
                  <a:pt x="0" y="21600"/>
                </a:lnTo>
                <a:close/>
              </a:path>
              <a:path fill="lightenLess" w="36539" h="21600">
                <a:moveTo>
                  <a:pt x="0" y="0"/>
                </a:moveTo>
                <a:lnTo>
                  <a:pt x="36539" y="0"/>
                </a:lnTo>
                <a:lnTo>
                  <a:pt x="35139" y="1400"/>
                </a:lnTo>
                <a:lnTo>
                  <a:pt x="1400" y="1400"/>
                </a:lnTo>
                <a:close/>
              </a:path>
              <a:path fill="darken" w="36539" h="21600">
                <a:moveTo>
                  <a:pt x="36539" y="0"/>
                </a:moveTo>
                <a:lnTo>
                  <a:pt x="36539" y="21600"/>
                </a:lnTo>
                <a:lnTo>
                  <a:pt x="35139" y="20200"/>
                </a:lnTo>
                <a:lnTo>
                  <a:pt x="35139" y="1400"/>
                </a:lnTo>
                <a:close/>
              </a:path>
              <a:path fill="darkenLess" w="36539" h="21600">
                <a:moveTo>
                  <a:pt x="36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39" y="20200"/>
                </a:lnTo>
                <a:close/>
              </a:path>
              <a:path fill="lighten" w="36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1981080"/>
            <a:ext cx="1447920" cy="99072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1564" h="21600">
                <a:moveTo>
                  <a:pt x="0" y="0"/>
                </a:moveTo>
                <a:lnTo>
                  <a:pt x="31564" y="0"/>
                </a:lnTo>
                <a:lnTo>
                  <a:pt x="31564" y="21600"/>
                </a:lnTo>
                <a:lnTo>
                  <a:pt x="0" y="21600"/>
                </a:lnTo>
                <a:close/>
              </a:path>
              <a:path fill="lightenLess" w="31564" h="21600">
                <a:moveTo>
                  <a:pt x="0" y="0"/>
                </a:moveTo>
                <a:lnTo>
                  <a:pt x="31564" y="0"/>
                </a:lnTo>
                <a:lnTo>
                  <a:pt x="30164" y="1400"/>
                </a:lnTo>
                <a:lnTo>
                  <a:pt x="1400" y="1400"/>
                </a:lnTo>
                <a:close/>
              </a:path>
              <a:path fill="darken" w="31564" h="21600">
                <a:moveTo>
                  <a:pt x="31564" y="0"/>
                </a:moveTo>
                <a:lnTo>
                  <a:pt x="31564" y="21600"/>
                </a:lnTo>
                <a:lnTo>
                  <a:pt x="30164" y="20200"/>
                </a:lnTo>
                <a:lnTo>
                  <a:pt x="30164" y="1400"/>
                </a:lnTo>
                <a:close/>
              </a:path>
              <a:path fill="darkenLess" w="31564" h="21600">
                <a:moveTo>
                  <a:pt x="31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4" y="20200"/>
                </a:lnTo>
                <a:close/>
              </a:path>
              <a:path fill="lighten" w="31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971800"/>
            <a:ext cx="1447920" cy="99072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1564" h="21600">
                <a:moveTo>
                  <a:pt x="0" y="0"/>
                </a:moveTo>
                <a:lnTo>
                  <a:pt x="31564" y="0"/>
                </a:lnTo>
                <a:lnTo>
                  <a:pt x="31564" y="21600"/>
                </a:lnTo>
                <a:lnTo>
                  <a:pt x="0" y="21600"/>
                </a:lnTo>
                <a:close/>
              </a:path>
              <a:path fill="lightenLess" w="31564" h="21600">
                <a:moveTo>
                  <a:pt x="0" y="0"/>
                </a:moveTo>
                <a:lnTo>
                  <a:pt x="31564" y="0"/>
                </a:lnTo>
                <a:lnTo>
                  <a:pt x="30164" y="1400"/>
                </a:lnTo>
                <a:lnTo>
                  <a:pt x="1400" y="1400"/>
                </a:lnTo>
                <a:close/>
              </a:path>
              <a:path fill="darken" w="31564" h="21600">
                <a:moveTo>
                  <a:pt x="31564" y="0"/>
                </a:moveTo>
                <a:lnTo>
                  <a:pt x="31564" y="21600"/>
                </a:lnTo>
                <a:lnTo>
                  <a:pt x="30164" y="20200"/>
                </a:lnTo>
                <a:lnTo>
                  <a:pt x="30164" y="1400"/>
                </a:lnTo>
                <a:close/>
              </a:path>
              <a:path fill="darkenLess" w="31564" h="21600">
                <a:moveTo>
                  <a:pt x="31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4" y="20200"/>
                </a:lnTo>
                <a:close/>
              </a:path>
              <a:path fill="lighten" w="31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3886200"/>
            <a:ext cx="1447920" cy="99072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1564" h="21600">
                <a:moveTo>
                  <a:pt x="0" y="0"/>
                </a:moveTo>
                <a:lnTo>
                  <a:pt x="31564" y="0"/>
                </a:lnTo>
                <a:lnTo>
                  <a:pt x="31564" y="21600"/>
                </a:lnTo>
                <a:lnTo>
                  <a:pt x="0" y="21600"/>
                </a:lnTo>
                <a:close/>
              </a:path>
              <a:path fill="lightenLess" w="31564" h="21600">
                <a:moveTo>
                  <a:pt x="0" y="0"/>
                </a:moveTo>
                <a:lnTo>
                  <a:pt x="31564" y="0"/>
                </a:lnTo>
                <a:lnTo>
                  <a:pt x="30164" y="1400"/>
                </a:lnTo>
                <a:lnTo>
                  <a:pt x="1400" y="1400"/>
                </a:lnTo>
                <a:close/>
              </a:path>
              <a:path fill="darken" w="31564" h="21600">
                <a:moveTo>
                  <a:pt x="31564" y="0"/>
                </a:moveTo>
                <a:lnTo>
                  <a:pt x="31564" y="21600"/>
                </a:lnTo>
                <a:lnTo>
                  <a:pt x="30164" y="20200"/>
                </a:lnTo>
                <a:lnTo>
                  <a:pt x="30164" y="1400"/>
                </a:lnTo>
                <a:close/>
              </a:path>
              <a:path fill="darkenLess" w="31564" h="21600">
                <a:moveTo>
                  <a:pt x="31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4" y="20200"/>
                </a:lnTo>
                <a:close/>
              </a:path>
              <a:path fill="lighten" w="31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4876920"/>
            <a:ext cx="1447920" cy="99036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76" h="21600">
                <a:moveTo>
                  <a:pt x="0" y="0"/>
                </a:moveTo>
                <a:lnTo>
                  <a:pt x="31576" y="0"/>
                </a:lnTo>
                <a:lnTo>
                  <a:pt x="31576" y="21600"/>
                </a:lnTo>
                <a:lnTo>
                  <a:pt x="0" y="21600"/>
                </a:lnTo>
                <a:close/>
              </a:path>
              <a:path fill="lightenLess" w="31576" h="21600">
                <a:moveTo>
                  <a:pt x="0" y="0"/>
                </a:moveTo>
                <a:lnTo>
                  <a:pt x="31576" y="0"/>
                </a:lnTo>
                <a:lnTo>
                  <a:pt x="30176" y="1400"/>
                </a:lnTo>
                <a:lnTo>
                  <a:pt x="1400" y="1400"/>
                </a:lnTo>
                <a:close/>
              </a:path>
              <a:path fill="darken" w="31576" h="21600">
                <a:moveTo>
                  <a:pt x="31576" y="0"/>
                </a:moveTo>
                <a:lnTo>
                  <a:pt x="31576" y="21600"/>
                </a:lnTo>
                <a:lnTo>
                  <a:pt x="30176" y="20200"/>
                </a:lnTo>
                <a:lnTo>
                  <a:pt x="30176" y="1400"/>
                </a:lnTo>
                <a:close/>
              </a:path>
              <a:path fill="darkenLess" w="31576" h="21600">
                <a:moveTo>
                  <a:pt x="31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76" y="20200"/>
                </a:lnTo>
                <a:close/>
              </a:path>
              <a:path fill="lighten" w="31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19810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28954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388620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4876920"/>
            <a:ext cx="2133720" cy="99036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6528" h="21600">
                <a:moveTo>
                  <a:pt x="0" y="0"/>
                </a:moveTo>
                <a:lnTo>
                  <a:pt x="46528" y="0"/>
                </a:lnTo>
                <a:lnTo>
                  <a:pt x="46528" y="21600"/>
                </a:lnTo>
                <a:lnTo>
                  <a:pt x="0" y="21600"/>
                </a:lnTo>
                <a:close/>
              </a:path>
              <a:path fill="lightenLess" w="46528" h="21600">
                <a:moveTo>
                  <a:pt x="0" y="0"/>
                </a:moveTo>
                <a:lnTo>
                  <a:pt x="46528" y="0"/>
                </a:lnTo>
                <a:lnTo>
                  <a:pt x="45128" y="1400"/>
                </a:lnTo>
                <a:lnTo>
                  <a:pt x="1400" y="1400"/>
                </a:lnTo>
                <a:close/>
              </a:path>
              <a:path fill="darken" w="46528" h="21600">
                <a:moveTo>
                  <a:pt x="46528" y="0"/>
                </a:moveTo>
                <a:lnTo>
                  <a:pt x="46528" y="21600"/>
                </a:lnTo>
                <a:lnTo>
                  <a:pt x="45128" y="20200"/>
                </a:lnTo>
                <a:lnTo>
                  <a:pt x="45128" y="1400"/>
                </a:lnTo>
                <a:close/>
              </a:path>
              <a:path fill="darkenLess" w="46528" h="21600">
                <a:moveTo>
                  <a:pt x="465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28" y="20200"/>
                </a:lnTo>
                <a:close/>
              </a:path>
              <a:path fill="lighten" w="465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67816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380880"/>
            <a:ext cx="838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762120"/>
            <a:ext cx="6172200" cy="2666880"/>
          </a:xfrm>
          <a:prstGeom prst="wedgeRectCallout">
            <a:avLst>
              <a:gd name="adj1" fmla="val 74768"/>
              <a:gd name="adj2" fmla="val 428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RIGH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When you’re RIGHT, you’re RIGH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172200" y="2550960"/>
            <a:ext cx="2971800" cy="1916280"/>
          </a:xfrm>
          <a:prstGeom prst="rect">
            <a:avLst/>
          </a:prstGeom>
          <a:ln w="0">
            <a:noFill/>
          </a:ln>
        </p:spPr>
      </p:pic>
      <p:sp>
        <p:nvSpPr>
          <p:cNvPr id="137" name="">
            <a:hlinkClick r:id="rId3"/>
          </p:cNvPr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6248520" y="167652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Blizz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457200"/>
            <a:ext cx="60199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orm where there is rain, thunder and lightning is called a _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6248520" y="43434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Hurric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6248520" y="34290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Tor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6248520" y="25146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Thunderst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orm where there is rain, thunder and lightning is called a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hunderstorm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739152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0" y="1600200"/>
            <a:ext cx="6603840" cy="4952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2819520" y="5029200"/>
            <a:ext cx="2361960" cy="1828800"/>
          </a:xfrm>
          <a:custGeom>
            <a:avLst/>
            <a:gdLst>
              <a:gd name="textAreaLeft" fmla="*/ 118440 w 2361960"/>
              <a:gd name="textAreaRight" fmla="*/ 2243520 w 236196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896" h="21600">
                <a:moveTo>
                  <a:pt x="0" y="0"/>
                </a:moveTo>
                <a:lnTo>
                  <a:pt x="27896" y="0"/>
                </a:lnTo>
                <a:lnTo>
                  <a:pt x="27896" y="21600"/>
                </a:lnTo>
                <a:lnTo>
                  <a:pt x="0" y="21600"/>
                </a:lnTo>
                <a:close/>
              </a:path>
              <a:path fill="lightenLess" w="27896" h="21600">
                <a:moveTo>
                  <a:pt x="0" y="0"/>
                </a:moveTo>
                <a:lnTo>
                  <a:pt x="27896" y="0"/>
                </a:lnTo>
                <a:lnTo>
                  <a:pt x="26496" y="1400"/>
                </a:lnTo>
                <a:lnTo>
                  <a:pt x="1400" y="1400"/>
                </a:lnTo>
                <a:close/>
              </a:path>
              <a:path fill="darken" w="27896" h="21600">
                <a:moveTo>
                  <a:pt x="27896" y="0"/>
                </a:moveTo>
                <a:lnTo>
                  <a:pt x="27896" y="21600"/>
                </a:lnTo>
                <a:lnTo>
                  <a:pt x="26496" y="20200"/>
                </a:lnTo>
                <a:lnTo>
                  <a:pt x="26496" y="1400"/>
                </a:lnTo>
                <a:close/>
              </a:path>
              <a:path fill="darkenLess" w="27896" h="21600">
                <a:moveTo>
                  <a:pt x="27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96" y="20200"/>
                </a:lnTo>
                <a:close/>
              </a:path>
              <a:path fill="lighten" w="27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96" h="21600">
                <a:moveTo>
                  <a:pt x="13948" y="3837"/>
                </a:moveTo>
                <a:lnTo>
                  <a:pt x="16524" y="6448"/>
                </a:lnTo>
                <a:lnTo>
                  <a:pt x="16524" y="4707"/>
                </a:lnTo>
                <a:lnTo>
                  <a:pt x="18300" y="4707"/>
                </a:lnTo>
                <a:lnTo>
                  <a:pt x="18300" y="8224"/>
                </a:lnTo>
                <a:lnTo>
                  <a:pt x="20911" y="10800"/>
                </a:lnTo>
                <a:lnTo>
                  <a:pt x="19257" y="10800"/>
                </a:lnTo>
                <a:lnTo>
                  <a:pt x="19257" y="17989"/>
                </a:lnTo>
                <a:lnTo>
                  <a:pt x="8639" y="17989"/>
                </a:lnTo>
                <a:lnTo>
                  <a:pt x="8639" y="10800"/>
                </a:lnTo>
                <a:lnTo>
                  <a:pt x="6985" y="10800"/>
                </a:lnTo>
                <a:close/>
              </a:path>
              <a:path fill="darkenLess" w="27896" h="21600">
                <a:moveTo>
                  <a:pt x="16524" y="6448"/>
                </a:moveTo>
                <a:lnTo>
                  <a:pt x="16524" y="4707"/>
                </a:lnTo>
                <a:lnTo>
                  <a:pt x="18300" y="4707"/>
                </a:lnTo>
                <a:lnTo>
                  <a:pt x="18300" y="8224"/>
                </a:lnTo>
                <a:close/>
              </a:path>
              <a:path fill="darkenLess" w="27896" h="21600">
                <a:moveTo>
                  <a:pt x="13025" y="14299"/>
                </a:moveTo>
                <a:lnTo>
                  <a:pt x="14871" y="14299"/>
                </a:lnTo>
                <a:lnTo>
                  <a:pt x="14871" y="17989"/>
                </a:lnTo>
                <a:lnTo>
                  <a:pt x="19257" y="17989"/>
                </a:lnTo>
                <a:lnTo>
                  <a:pt x="19257" y="10800"/>
                </a:lnTo>
                <a:lnTo>
                  <a:pt x="8639" y="10800"/>
                </a:lnTo>
                <a:lnTo>
                  <a:pt x="8639" y="17989"/>
                </a:lnTo>
                <a:lnTo>
                  <a:pt x="13025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0"/>
            <a:ext cx="3429000" cy="3048120"/>
          </a:xfrm>
          <a:prstGeom prst="cloudCallout">
            <a:avLst>
              <a:gd name="adj1" fmla="val 50000"/>
              <a:gd name="adj2" fmla="val 3125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nuis!  That is what it is sheer geniu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343400" y="2438280"/>
            <a:ext cx="1857240" cy="1871640"/>
          </a:xfrm>
          <a:prstGeom prst="rect">
            <a:avLst/>
          </a:prstGeom>
          <a:ln w="0">
            <a:noFill/>
          </a:ln>
        </p:spPr>
      </p:pic>
      <p:sp>
        <p:nvSpPr>
          <p:cNvPr id="149" name="">
            <a:hlinkClick r:id="rId3"/>
          </p:cNvPr>
          <p:cNvSpPr/>
          <p:nvPr/>
        </p:nvSpPr>
        <p:spPr>
          <a:xfrm>
            <a:off x="6324480" y="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5562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orm where there is a lot of wind that sometimes looks like a funnel and can do a lot of damage is called a _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5486400" y="1676520"/>
            <a:ext cx="3657600" cy="914400"/>
          </a:xfrm>
          <a:custGeom>
            <a:avLst/>
            <a:gdLst>
              <a:gd name="textAreaLeft" fmla="*/ 59040 w 3657600"/>
              <a:gd name="textAreaRight" fmla="*/ 3598560 w 3657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6374" h="21600">
                <a:moveTo>
                  <a:pt x="0" y="0"/>
                </a:moveTo>
                <a:lnTo>
                  <a:pt x="86374" y="0"/>
                </a:lnTo>
                <a:lnTo>
                  <a:pt x="86374" y="21600"/>
                </a:lnTo>
                <a:lnTo>
                  <a:pt x="0" y="21600"/>
                </a:lnTo>
                <a:close/>
              </a:path>
              <a:path fill="lightenLess" w="86374" h="21600">
                <a:moveTo>
                  <a:pt x="0" y="0"/>
                </a:moveTo>
                <a:lnTo>
                  <a:pt x="86374" y="0"/>
                </a:lnTo>
                <a:lnTo>
                  <a:pt x="84975" y="1400"/>
                </a:lnTo>
                <a:lnTo>
                  <a:pt x="1400" y="1400"/>
                </a:lnTo>
                <a:close/>
              </a:path>
              <a:path fill="darken" w="86374" h="21600">
                <a:moveTo>
                  <a:pt x="86374" y="0"/>
                </a:moveTo>
                <a:lnTo>
                  <a:pt x="86374" y="21600"/>
                </a:lnTo>
                <a:lnTo>
                  <a:pt x="84975" y="20200"/>
                </a:lnTo>
                <a:lnTo>
                  <a:pt x="84975" y="1400"/>
                </a:lnTo>
                <a:close/>
              </a:path>
              <a:path fill="darkenLess" w="86374" h="21600">
                <a:moveTo>
                  <a:pt x="86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75" y="20200"/>
                </a:lnTo>
                <a:close/>
              </a:path>
              <a:path fill="lighten" w="86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Blizz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5486400" y="4343400"/>
            <a:ext cx="3657600" cy="914400"/>
          </a:xfrm>
          <a:custGeom>
            <a:avLst/>
            <a:gdLst>
              <a:gd name="textAreaLeft" fmla="*/ 59040 w 3657600"/>
              <a:gd name="textAreaRight" fmla="*/ 3598560 w 3657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6374" h="21600">
                <a:moveTo>
                  <a:pt x="0" y="0"/>
                </a:moveTo>
                <a:lnTo>
                  <a:pt x="86374" y="0"/>
                </a:lnTo>
                <a:lnTo>
                  <a:pt x="86374" y="21600"/>
                </a:lnTo>
                <a:lnTo>
                  <a:pt x="0" y="21600"/>
                </a:lnTo>
                <a:close/>
              </a:path>
              <a:path fill="lightenLess" w="86374" h="21600">
                <a:moveTo>
                  <a:pt x="0" y="0"/>
                </a:moveTo>
                <a:lnTo>
                  <a:pt x="86374" y="0"/>
                </a:lnTo>
                <a:lnTo>
                  <a:pt x="84975" y="1400"/>
                </a:lnTo>
                <a:lnTo>
                  <a:pt x="1400" y="1400"/>
                </a:lnTo>
                <a:close/>
              </a:path>
              <a:path fill="darken" w="86374" h="21600">
                <a:moveTo>
                  <a:pt x="86374" y="0"/>
                </a:moveTo>
                <a:lnTo>
                  <a:pt x="86374" y="21600"/>
                </a:lnTo>
                <a:lnTo>
                  <a:pt x="84975" y="20200"/>
                </a:lnTo>
                <a:lnTo>
                  <a:pt x="84975" y="1400"/>
                </a:lnTo>
                <a:close/>
              </a:path>
              <a:path fill="darkenLess" w="86374" h="21600">
                <a:moveTo>
                  <a:pt x="86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75" y="20200"/>
                </a:lnTo>
                <a:close/>
              </a:path>
              <a:path fill="lighten" w="86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Tor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5486400" y="3429000"/>
            <a:ext cx="3657600" cy="914400"/>
          </a:xfrm>
          <a:custGeom>
            <a:avLst/>
            <a:gdLst>
              <a:gd name="textAreaLeft" fmla="*/ 59040 w 3657600"/>
              <a:gd name="textAreaRight" fmla="*/ 3598560 w 3657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6374" h="21600">
                <a:moveTo>
                  <a:pt x="0" y="0"/>
                </a:moveTo>
                <a:lnTo>
                  <a:pt x="86374" y="0"/>
                </a:lnTo>
                <a:lnTo>
                  <a:pt x="86374" y="21600"/>
                </a:lnTo>
                <a:lnTo>
                  <a:pt x="0" y="21600"/>
                </a:lnTo>
                <a:close/>
              </a:path>
              <a:path fill="lightenLess" w="86374" h="21600">
                <a:moveTo>
                  <a:pt x="0" y="0"/>
                </a:moveTo>
                <a:lnTo>
                  <a:pt x="86374" y="0"/>
                </a:lnTo>
                <a:lnTo>
                  <a:pt x="84975" y="1400"/>
                </a:lnTo>
                <a:lnTo>
                  <a:pt x="1400" y="1400"/>
                </a:lnTo>
                <a:close/>
              </a:path>
              <a:path fill="darken" w="86374" h="21600">
                <a:moveTo>
                  <a:pt x="86374" y="0"/>
                </a:moveTo>
                <a:lnTo>
                  <a:pt x="86374" y="21600"/>
                </a:lnTo>
                <a:lnTo>
                  <a:pt x="84975" y="20200"/>
                </a:lnTo>
                <a:lnTo>
                  <a:pt x="84975" y="1400"/>
                </a:lnTo>
                <a:close/>
              </a:path>
              <a:path fill="darkenLess" w="86374" h="21600">
                <a:moveTo>
                  <a:pt x="86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75" y="20200"/>
                </a:lnTo>
                <a:close/>
              </a:path>
              <a:path fill="lighten" w="86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Hurric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5486400" y="2514600"/>
            <a:ext cx="3657600" cy="914400"/>
          </a:xfrm>
          <a:custGeom>
            <a:avLst/>
            <a:gdLst>
              <a:gd name="textAreaLeft" fmla="*/ 59040 w 3657600"/>
              <a:gd name="textAreaRight" fmla="*/ 3598560 w 3657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6374" h="21600">
                <a:moveTo>
                  <a:pt x="0" y="0"/>
                </a:moveTo>
                <a:lnTo>
                  <a:pt x="86374" y="0"/>
                </a:lnTo>
                <a:lnTo>
                  <a:pt x="86374" y="21600"/>
                </a:lnTo>
                <a:lnTo>
                  <a:pt x="0" y="21600"/>
                </a:lnTo>
                <a:close/>
              </a:path>
              <a:path fill="lightenLess" w="86374" h="21600">
                <a:moveTo>
                  <a:pt x="0" y="0"/>
                </a:moveTo>
                <a:lnTo>
                  <a:pt x="86374" y="0"/>
                </a:lnTo>
                <a:lnTo>
                  <a:pt x="84975" y="1400"/>
                </a:lnTo>
                <a:lnTo>
                  <a:pt x="1400" y="1400"/>
                </a:lnTo>
                <a:close/>
              </a:path>
              <a:path fill="darken" w="86374" h="21600">
                <a:moveTo>
                  <a:pt x="86374" y="0"/>
                </a:moveTo>
                <a:lnTo>
                  <a:pt x="86374" y="21600"/>
                </a:lnTo>
                <a:lnTo>
                  <a:pt x="84975" y="20200"/>
                </a:lnTo>
                <a:lnTo>
                  <a:pt x="84975" y="1400"/>
                </a:lnTo>
                <a:close/>
              </a:path>
              <a:path fill="darkenLess" w="86374" h="21600">
                <a:moveTo>
                  <a:pt x="86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75" y="20200"/>
                </a:lnTo>
                <a:close/>
              </a:path>
              <a:path fill="lighten" w="86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Thunderst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orm where there is a lot of wind that sometimes looks like a funnel and can do a lot of damage is called a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na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739152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380880" y="3505320"/>
            <a:ext cx="3043440" cy="2347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6019920" y="5029200"/>
            <a:ext cx="2361960" cy="1828800"/>
          </a:xfrm>
          <a:custGeom>
            <a:avLst/>
            <a:gdLst>
              <a:gd name="textAreaLeft" fmla="*/ 118440 w 2361960"/>
              <a:gd name="textAreaRight" fmla="*/ 2243520 w 236196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896" h="21600">
                <a:moveTo>
                  <a:pt x="0" y="0"/>
                </a:moveTo>
                <a:lnTo>
                  <a:pt x="27896" y="0"/>
                </a:lnTo>
                <a:lnTo>
                  <a:pt x="27896" y="21600"/>
                </a:lnTo>
                <a:lnTo>
                  <a:pt x="0" y="21600"/>
                </a:lnTo>
                <a:close/>
              </a:path>
              <a:path fill="lightenLess" w="27896" h="21600">
                <a:moveTo>
                  <a:pt x="0" y="0"/>
                </a:moveTo>
                <a:lnTo>
                  <a:pt x="27896" y="0"/>
                </a:lnTo>
                <a:lnTo>
                  <a:pt x="26496" y="1400"/>
                </a:lnTo>
                <a:lnTo>
                  <a:pt x="1400" y="1400"/>
                </a:lnTo>
                <a:close/>
              </a:path>
              <a:path fill="darken" w="27896" h="21600">
                <a:moveTo>
                  <a:pt x="27896" y="0"/>
                </a:moveTo>
                <a:lnTo>
                  <a:pt x="27896" y="21600"/>
                </a:lnTo>
                <a:lnTo>
                  <a:pt x="26496" y="20200"/>
                </a:lnTo>
                <a:lnTo>
                  <a:pt x="26496" y="1400"/>
                </a:lnTo>
                <a:close/>
              </a:path>
              <a:path fill="darkenLess" w="27896" h="21600">
                <a:moveTo>
                  <a:pt x="27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96" y="20200"/>
                </a:lnTo>
                <a:close/>
              </a:path>
              <a:path fill="lighten" w="27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96" h="21600">
                <a:moveTo>
                  <a:pt x="13948" y="3837"/>
                </a:moveTo>
                <a:lnTo>
                  <a:pt x="16524" y="6448"/>
                </a:lnTo>
                <a:lnTo>
                  <a:pt x="16524" y="4707"/>
                </a:lnTo>
                <a:lnTo>
                  <a:pt x="18300" y="4707"/>
                </a:lnTo>
                <a:lnTo>
                  <a:pt x="18300" y="8224"/>
                </a:lnTo>
                <a:lnTo>
                  <a:pt x="20911" y="10800"/>
                </a:lnTo>
                <a:lnTo>
                  <a:pt x="19257" y="10800"/>
                </a:lnTo>
                <a:lnTo>
                  <a:pt x="19257" y="17989"/>
                </a:lnTo>
                <a:lnTo>
                  <a:pt x="8639" y="17989"/>
                </a:lnTo>
                <a:lnTo>
                  <a:pt x="8639" y="10800"/>
                </a:lnTo>
                <a:lnTo>
                  <a:pt x="6985" y="10800"/>
                </a:lnTo>
                <a:close/>
              </a:path>
              <a:path fill="darkenLess" w="27896" h="21600">
                <a:moveTo>
                  <a:pt x="16524" y="6448"/>
                </a:moveTo>
                <a:lnTo>
                  <a:pt x="16524" y="4707"/>
                </a:lnTo>
                <a:lnTo>
                  <a:pt x="18300" y="4707"/>
                </a:lnTo>
                <a:lnTo>
                  <a:pt x="18300" y="8224"/>
                </a:lnTo>
                <a:close/>
              </a:path>
              <a:path fill="darkenLess" w="27896" h="21600">
                <a:moveTo>
                  <a:pt x="13025" y="14299"/>
                </a:moveTo>
                <a:lnTo>
                  <a:pt x="14871" y="14299"/>
                </a:lnTo>
                <a:lnTo>
                  <a:pt x="14871" y="17989"/>
                </a:lnTo>
                <a:lnTo>
                  <a:pt x="19257" y="17989"/>
                </a:lnTo>
                <a:lnTo>
                  <a:pt x="19257" y="10800"/>
                </a:lnTo>
                <a:lnTo>
                  <a:pt x="8639" y="10800"/>
                </a:lnTo>
                <a:lnTo>
                  <a:pt x="8639" y="17989"/>
                </a:lnTo>
                <a:lnTo>
                  <a:pt x="13025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0"/>
            <a:ext cx="434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You just outsmarted m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553080" y="457200"/>
            <a:ext cx="1293840" cy="454356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3"/>
          </p:cNvPr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0958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orm where there is a lot of rain and wind that can knock down trees and cause flooding is called a 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6248520" y="167652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Blizz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6248520" y="43434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Thunderst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6248520" y="34290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Tor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6248520" y="25146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Hurric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89154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orm where there is a lot of rain and wind that can knock down trees and cause flooding is called a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hurrican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739152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1066680" y="3060720"/>
            <a:ext cx="5079960" cy="3797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67816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38080" y="0"/>
            <a:ext cx="7620120" cy="2057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Brilla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971800" y="2139840"/>
            <a:ext cx="3219480" cy="2703600"/>
          </a:xfrm>
          <a:prstGeom prst="rect">
            <a:avLst/>
          </a:prstGeom>
          <a:ln w="0">
            <a:noFill/>
          </a:ln>
        </p:spPr>
      </p:pic>
      <p:sp>
        <p:nvSpPr>
          <p:cNvPr id="173" name="">
            <a:hlinkClick r:id="rId3"/>
          </p:cNvPr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5943600" y="388620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Therm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5943600" y="289548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Rain 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5943600" y="4876920"/>
            <a:ext cx="3200400" cy="99036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69784" h="21600">
                <a:moveTo>
                  <a:pt x="0" y="0"/>
                </a:moveTo>
                <a:lnTo>
                  <a:pt x="69784" y="0"/>
                </a:lnTo>
                <a:lnTo>
                  <a:pt x="69784" y="21600"/>
                </a:lnTo>
                <a:lnTo>
                  <a:pt x="0" y="21600"/>
                </a:lnTo>
                <a:close/>
              </a:path>
              <a:path fill="lightenLess" w="69784" h="21600">
                <a:moveTo>
                  <a:pt x="0" y="0"/>
                </a:moveTo>
                <a:lnTo>
                  <a:pt x="69784" y="0"/>
                </a:lnTo>
                <a:lnTo>
                  <a:pt x="68384" y="1400"/>
                </a:lnTo>
                <a:lnTo>
                  <a:pt x="1400" y="1400"/>
                </a:lnTo>
                <a:close/>
              </a:path>
              <a:path fill="darken" w="69784" h="21600">
                <a:moveTo>
                  <a:pt x="69784" y="0"/>
                </a:moveTo>
                <a:lnTo>
                  <a:pt x="69784" y="21600"/>
                </a:lnTo>
                <a:lnTo>
                  <a:pt x="68384" y="20200"/>
                </a:lnTo>
                <a:lnTo>
                  <a:pt x="68384" y="1400"/>
                </a:lnTo>
                <a:close/>
              </a:path>
              <a:path fill="darkenLess" w="69784" h="21600">
                <a:moveTo>
                  <a:pt x="69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84" y="20200"/>
                </a:lnTo>
                <a:close/>
              </a:path>
              <a:path fill="lighten" w="69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eather v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5943600" y="586728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bar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_________ is a tool used to show the direction the wind is blowing (North, South, East, or West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475920" y="7196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457200"/>
            <a:ext cx="662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5 Topic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6248520" y="167652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6248520" y="43434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6248520" y="34290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6248520" y="25146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28600" y="457200"/>
            <a:ext cx="8381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 5 Topic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862440" y="2438280"/>
            <a:ext cx="1012680" cy="1413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1371600" y="7621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ool!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4" name="">
            <a:hlinkClick r:id="rId3"/>
          </p:cNvPr>
          <p:cNvSpPr/>
          <p:nvPr/>
        </p:nvSpPr>
        <p:spPr>
          <a:xfrm>
            <a:off x="632448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1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o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6553080" y="1600200"/>
            <a:ext cx="2590920" cy="1219320"/>
          </a:xfrm>
          <a:custGeom>
            <a:avLst/>
            <a:gdLst>
              <a:gd name="textAreaLeft" fmla="*/ 78840 w 2590920"/>
              <a:gd name="textAreaRight" fmla="*/ 2512080 w 2590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5890" h="21600">
                <a:moveTo>
                  <a:pt x="0" y="0"/>
                </a:moveTo>
                <a:lnTo>
                  <a:pt x="45890" y="0"/>
                </a:lnTo>
                <a:lnTo>
                  <a:pt x="45890" y="21600"/>
                </a:lnTo>
                <a:lnTo>
                  <a:pt x="0" y="21600"/>
                </a:lnTo>
                <a:close/>
              </a:path>
              <a:path fill="lightenLess" w="45890" h="21600">
                <a:moveTo>
                  <a:pt x="0" y="0"/>
                </a:moveTo>
                <a:lnTo>
                  <a:pt x="45890" y="0"/>
                </a:lnTo>
                <a:lnTo>
                  <a:pt x="44491" y="1400"/>
                </a:lnTo>
                <a:lnTo>
                  <a:pt x="1400" y="1400"/>
                </a:lnTo>
                <a:close/>
              </a:path>
              <a:path fill="darken" w="45890" h="21600">
                <a:moveTo>
                  <a:pt x="45890" y="0"/>
                </a:moveTo>
                <a:lnTo>
                  <a:pt x="45890" y="21600"/>
                </a:lnTo>
                <a:lnTo>
                  <a:pt x="44491" y="20200"/>
                </a:lnTo>
                <a:lnTo>
                  <a:pt x="44491" y="1400"/>
                </a:lnTo>
                <a:close/>
              </a:path>
              <a:path fill="darkenLess" w="45890" h="21600">
                <a:moveTo>
                  <a:pt x="4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91" y="20200"/>
                </a:lnTo>
                <a:close/>
              </a:path>
              <a:path fill="lighten" w="4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_________ is when an animal leaves its habitat in the fall to go to a warmer place in order to meet its basic nee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6553080" y="5257800"/>
            <a:ext cx="2590920" cy="1219320"/>
          </a:xfrm>
          <a:custGeom>
            <a:avLst/>
            <a:gdLst>
              <a:gd name="textAreaLeft" fmla="*/ 78840 w 2590920"/>
              <a:gd name="textAreaRight" fmla="*/ 2512080 w 2590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5890" h="21600">
                <a:moveTo>
                  <a:pt x="0" y="0"/>
                </a:moveTo>
                <a:lnTo>
                  <a:pt x="45890" y="0"/>
                </a:lnTo>
                <a:lnTo>
                  <a:pt x="45890" y="21600"/>
                </a:lnTo>
                <a:lnTo>
                  <a:pt x="0" y="21600"/>
                </a:lnTo>
                <a:close/>
              </a:path>
              <a:path fill="lightenLess" w="45890" h="21600">
                <a:moveTo>
                  <a:pt x="0" y="0"/>
                </a:moveTo>
                <a:lnTo>
                  <a:pt x="45890" y="0"/>
                </a:lnTo>
                <a:lnTo>
                  <a:pt x="44491" y="1400"/>
                </a:lnTo>
                <a:lnTo>
                  <a:pt x="1400" y="1400"/>
                </a:lnTo>
                <a:close/>
              </a:path>
              <a:path fill="darken" w="45890" h="21600">
                <a:moveTo>
                  <a:pt x="45890" y="0"/>
                </a:moveTo>
                <a:lnTo>
                  <a:pt x="45890" y="21600"/>
                </a:lnTo>
                <a:lnTo>
                  <a:pt x="44491" y="20200"/>
                </a:lnTo>
                <a:lnTo>
                  <a:pt x="44491" y="1400"/>
                </a:lnTo>
                <a:close/>
              </a:path>
              <a:path fill="darkenLess" w="45890" h="21600">
                <a:moveTo>
                  <a:pt x="4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91" y="20200"/>
                </a:lnTo>
                <a:close/>
              </a:path>
              <a:path fill="lighten" w="4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 Camouf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6553080" y="4038480"/>
            <a:ext cx="2590920" cy="1219320"/>
          </a:xfrm>
          <a:custGeom>
            <a:avLst/>
            <a:gdLst>
              <a:gd name="textAreaLeft" fmla="*/ 78840 w 2590920"/>
              <a:gd name="textAreaRight" fmla="*/ 2512080 w 2590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5890" h="21600">
                <a:moveTo>
                  <a:pt x="0" y="0"/>
                </a:moveTo>
                <a:lnTo>
                  <a:pt x="45890" y="0"/>
                </a:lnTo>
                <a:lnTo>
                  <a:pt x="45890" y="21600"/>
                </a:lnTo>
                <a:lnTo>
                  <a:pt x="0" y="21600"/>
                </a:lnTo>
                <a:close/>
              </a:path>
              <a:path fill="lightenLess" w="45890" h="21600">
                <a:moveTo>
                  <a:pt x="0" y="0"/>
                </a:moveTo>
                <a:lnTo>
                  <a:pt x="45890" y="0"/>
                </a:lnTo>
                <a:lnTo>
                  <a:pt x="44491" y="1400"/>
                </a:lnTo>
                <a:lnTo>
                  <a:pt x="1400" y="1400"/>
                </a:lnTo>
                <a:close/>
              </a:path>
              <a:path fill="darken" w="45890" h="21600">
                <a:moveTo>
                  <a:pt x="45890" y="0"/>
                </a:moveTo>
                <a:lnTo>
                  <a:pt x="45890" y="21600"/>
                </a:lnTo>
                <a:lnTo>
                  <a:pt x="44491" y="20200"/>
                </a:lnTo>
                <a:lnTo>
                  <a:pt x="44491" y="1400"/>
                </a:lnTo>
                <a:close/>
              </a:path>
              <a:path fill="darkenLess" w="45890" h="21600">
                <a:moveTo>
                  <a:pt x="4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91" y="20200"/>
                </a:lnTo>
                <a:close/>
              </a:path>
              <a:path fill="lighten" w="4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 Dorma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6553080" y="2819520"/>
            <a:ext cx="2590920" cy="1218960"/>
          </a:xfrm>
          <a:custGeom>
            <a:avLst/>
            <a:gdLst>
              <a:gd name="textAreaLeft" fmla="*/ 78840 w 2590920"/>
              <a:gd name="textAreaRight" fmla="*/ 2512080 w 25909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5904" h="21600">
                <a:moveTo>
                  <a:pt x="0" y="0"/>
                </a:moveTo>
                <a:lnTo>
                  <a:pt x="45904" y="0"/>
                </a:lnTo>
                <a:lnTo>
                  <a:pt x="45904" y="21600"/>
                </a:lnTo>
                <a:lnTo>
                  <a:pt x="0" y="21600"/>
                </a:lnTo>
                <a:close/>
              </a:path>
              <a:path fill="lightenLess" w="45904" h="21600">
                <a:moveTo>
                  <a:pt x="0" y="0"/>
                </a:moveTo>
                <a:lnTo>
                  <a:pt x="45904" y="0"/>
                </a:lnTo>
                <a:lnTo>
                  <a:pt x="44504" y="1400"/>
                </a:lnTo>
                <a:lnTo>
                  <a:pt x="1400" y="1400"/>
                </a:lnTo>
                <a:close/>
              </a:path>
              <a:path fill="darken" w="45904" h="21600">
                <a:moveTo>
                  <a:pt x="45904" y="0"/>
                </a:moveTo>
                <a:lnTo>
                  <a:pt x="45904" y="21600"/>
                </a:lnTo>
                <a:lnTo>
                  <a:pt x="44504" y="20200"/>
                </a:lnTo>
                <a:lnTo>
                  <a:pt x="44504" y="1400"/>
                </a:lnTo>
                <a:close/>
              </a:path>
              <a:path fill="darkenLess" w="45904" h="21600">
                <a:moveTo>
                  <a:pt x="45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04" y="20200"/>
                </a:lnTo>
                <a:close/>
              </a:path>
              <a:path fill="lighten" w="45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 Bl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8600" y="457200"/>
            <a:ext cx="89154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Migrat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when an animal leaves its habitat in the fall to go to a warmer place in order to meet its basic nee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693432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1600200" y="2438280"/>
            <a:ext cx="410544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67816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00400" y="2666880"/>
            <a:ext cx="2247840" cy="2248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190440" y="533520"/>
            <a:ext cx="8572680" cy="2133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ou're super good,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ut can you keep up with me?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">
            <a:hlinkClick r:id="rId3"/>
          </p:cNvPr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" y="457200"/>
            <a:ext cx="5638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_________ is when a plant’s growth slows down showing no signs of ac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5943600" y="1600200"/>
            <a:ext cx="3200400" cy="1219320"/>
          </a:xfrm>
          <a:custGeom>
            <a:avLst/>
            <a:gdLst>
              <a:gd name="textAreaLeft" fmla="*/ 78840 w 3200400"/>
              <a:gd name="textAreaRight" fmla="*/ 3121560 w 32004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6684" h="21600">
                <a:moveTo>
                  <a:pt x="0" y="0"/>
                </a:moveTo>
                <a:lnTo>
                  <a:pt x="56684" y="0"/>
                </a:lnTo>
                <a:lnTo>
                  <a:pt x="56684" y="21600"/>
                </a:lnTo>
                <a:lnTo>
                  <a:pt x="0" y="21600"/>
                </a:lnTo>
                <a:close/>
              </a:path>
              <a:path fill="lightenLess" w="56684" h="21600">
                <a:moveTo>
                  <a:pt x="0" y="0"/>
                </a:moveTo>
                <a:lnTo>
                  <a:pt x="56684" y="0"/>
                </a:lnTo>
                <a:lnTo>
                  <a:pt x="55284" y="1400"/>
                </a:lnTo>
                <a:lnTo>
                  <a:pt x="1400" y="1400"/>
                </a:lnTo>
                <a:close/>
              </a:path>
              <a:path fill="darken" w="56684" h="21600">
                <a:moveTo>
                  <a:pt x="56684" y="0"/>
                </a:moveTo>
                <a:lnTo>
                  <a:pt x="56684" y="21600"/>
                </a:lnTo>
                <a:lnTo>
                  <a:pt x="55284" y="20200"/>
                </a:lnTo>
                <a:lnTo>
                  <a:pt x="55284" y="1400"/>
                </a:lnTo>
                <a:close/>
              </a:path>
              <a:path fill="darkenLess" w="56684" h="21600">
                <a:moveTo>
                  <a:pt x="56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84" y="20200"/>
                </a:lnTo>
                <a:close/>
              </a:path>
              <a:path fill="lighten" w="56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Bl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nextslide"/>
          </p:cNvPr>
          <p:cNvSpPr/>
          <p:nvPr/>
        </p:nvSpPr>
        <p:spPr>
          <a:xfrm>
            <a:off x="5943600" y="5257800"/>
            <a:ext cx="3200400" cy="1219320"/>
          </a:xfrm>
          <a:custGeom>
            <a:avLst/>
            <a:gdLst>
              <a:gd name="textAreaLeft" fmla="*/ 78840 w 3200400"/>
              <a:gd name="textAreaRight" fmla="*/ 3121560 w 32004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6684" h="21600">
                <a:moveTo>
                  <a:pt x="0" y="0"/>
                </a:moveTo>
                <a:lnTo>
                  <a:pt x="56684" y="0"/>
                </a:lnTo>
                <a:lnTo>
                  <a:pt x="56684" y="21600"/>
                </a:lnTo>
                <a:lnTo>
                  <a:pt x="0" y="21600"/>
                </a:lnTo>
                <a:close/>
              </a:path>
              <a:path fill="lightenLess" w="56684" h="21600">
                <a:moveTo>
                  <a:pt x="0" y="0"/>
                </a:moveTo>
                <a:lnTo>
                  <a:pt x="56684" y="0"/>
                </a:lnTo>
                <a:lnTo>
                  <a:pt x="55284" y="1400"/>
                </a:lnTo>
                <a:lnTo>
                  <a:pt x="1400" y="1400"/>
                </a:lnTo>
                <a:close/>
              </a:path>
              <a:path fill="darken" w="56684" h="21600">
                <a:moveTo>
                  <a:pt x="56684" y="0"/>
                </a:moveTo>
                <a:lnTo>
                  <a:pt x="56684" y="21600"/>
                </a:lnTo>
                <a:lnTo>
                  <a:pt x="55284" y="20200"/>
                </a:lnTo>
                <a:lnTo>
                  <a:pt x="55284" y="1400"/>
                </a:lnTo>
                <a:close/>
              </a:path>
              <a:path fill="darkenLess" w="56684" h="21600">
                <a:moveTo>
                  <a:pt x="56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84" y="20200"/>
                </a:lnTo>
                <a:close/>
              </a:path>
              <a:path fill="lighten" w="56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Camouf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5943600" y="4038480"/>
            <a:ext cx="3200400" cy="1219320"/>
          </a:xfrm>
          <a:custGeom>
            <a:avLst/>
            <a:gdLst>
              <a:gd name="textAreaLeft" fmla="*/ 78840 w 3200400"/>
              <a:gd name="textAreaRight" fmla="*/ 3121560 w 32004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6684" h="21600">
                <a:moveTo>
                  <a:pt x="0" y="0"/>
                </a:moveTo>
                <a:lnTo>
                  <a:pt x="56684" y="0"/>
                </a:lnTo>
                <a:lnTo>
                  <a:pt x="56684" y="21600"/>
                </a:lnTo>
                <a:lnTo>
                  <a:pt x="0" y="21600"/>
                </a:lnTo>
                <a:close/>
              </a:path>
              <a:path fill="lightenLess" w="56684" h="21600">
                <a:moveTo>
                  <a:pt x="0" y="0"/>
                </a:moveTo>
                <a:lnTo>
                  <a:pt x="56684" y="0"/>
                </a:lnTo>
                <a:lnTo>
                  <a:pt x="55284" y="1400"/>
                </a:lnTo>
                <a:lnTo>
                  <a:pt x="1400" y="1400"/>
                </a:lnTo>
                <a:close/>
              </a:path>
              <a:path fill="darken" w="56684" h="21600">
                <a:moveTo>
                  <a:pt x="56684" y="0"/>
                </a:moveTo>
                <a:lnTo>
                  <a:pt x="56684" y="21600"/>
                </a:lnTo>
                <a:lnTo>
                  <a:pt x="55284" y="20200"/>
                </a:lnTo>
                <a:lnTo>
                  <a:pt x="55284" y="1400"/>
                </a:lnTo>
                <a:close/>
              </a:path>
              <a:path fill="darkenLess" w="56684" h="21600">
                <a:moveTo>
                  <a:pt x="56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84" y="20200"/>
                </a:lnTo>
                <a:close/>
              </a:path>
              <a:path fill="lighten" w="56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Dorma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5943600" y="2819520"/>
            <a:ext cx="3200400" cy="1218960"/>
          </a:xfrm>
          <a:custGeom>
            <a:avLst/>
            <a:gdLst>
              <a:gd name="textAreaLeft" fmla="*/ 78840 w 3200400"/>
              <a:gd name="textAreaRight" fmla="*/ 3121560 w 32004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56701" h="21600">
                <a:moveTo>
                  <a:pt x="0" y="0"/>
                </a:moveTo>
                <a:lnTo>
                  <a:pt x="56701" y="0"/>
                </a:lnTo>
                <a:lnTo>
                  <a:pt x="56701" y="21600"/>
                </a:lnTo>
                <a:lnTo>
                  <a:pt x="0" y="21600"/>
                </a:lnTo>
                <a:close/>
              </a:path>
              <a:path fill="lightenLess" w="56701" h="21600">
                <a:moveTo>
                  <a:pt x="0" y="0"/>
                </a:moveTo>
                <a:lnTo>
                  <a:pt x="56701" y="0"/>
                </a:lnTo>
                <a:lnTo>
                  <a:pt x="55301" y="1400"/>
                </a:lnTo>
                <a:lnTo>
                  <a:pt x="1400" y="1400"/>
                </a:lnTo>
                <a:close/>
              </a:path>
              <a:path fill="darken" w="56701" h="21600">
                <a:moveTo>
                  <a:pt x="56701" y="0"/>
                </a:moveTo>
                <a:lnTo>
                  <a:pt x="56701" y="21600"/>
                </a:lnTo>
                <a:lnTo>
                  <a:pt x="55301" y="20200"/>
                </a:lnTo>
                <a:lnTo>
                  <a:pt x="55301" y="1400"/>
                </a:lnTo>
                <a:close/>
              </a:path>
              <a:path fill="darkenLess" w="56701" h="21600">
                <a:moveTo>
                  <a:pt x="56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301" y="20200"/>
                </a:lnTo>
                <a:close/>
              </a:path>
              <a:path fill="lighten" w="56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8600" y="457200"/>
            <a:ext cx="861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ormanc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when a plant’s growth slows down showing no signs of ac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739152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2182680" y="2666880"/>
            <a:ext cx="311328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63244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04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5050"/>
                </a:solidFill>
                <a:latin typeface="Times New Roman"/>
              </a:rPr>
              <a:t>You’re bouncing along well!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2538360" y="1219320"/>
            <a:ext cx="3348000" cy="3638520"/>
          </a:xfrm>
          <a:prstGeom prst="rect">
            <a:avLst/>
          </a:prstGeom>
          <a:ln w="0">
            <a:noFill/>
          </a:ln>
        </p:spPr>
      </p:pic>
      <p:sp>
        <p:nvSpPr>
          <p:cNvPr id="208" name="">
            <a:hlinkClick r:id="rId3"/>
          </p:cNvPr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5410080" y="1219320"/>
            <a:ext cx="3733920" cy="1143000"/>
          </a:xfrm>
          <a:custGeom>
            <a:avLst/>
            <a:gdLst>
              <a:gd name="textAreaLeft" fmla="*/ 73800 w 3733920"/>
              <a:gd name="textAreaRight" fmla="*/ 3660120 w 37339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70547" h="21600">
                <a:moveTo>
                  <a:pt x="0" y="0"/>
                </a:moveTo>
                <a:lnTo>
                  <a:pt x="70547" y="0"/>
                </a:lnTo>
                <a:lnTo>
                  <a:pt x="70547" y="21600"/>
                </a:lnTo>
                <a:lnTo>
                  <a:pt x="0" y="21600"/>
                </a:lnTo>
                <a:close/>
              </a:path>
              <a:path fill="lightenLess" w="70547" h="21600">
                <a:moveTo>
                  <a:pt x="0" y="0"/>
                </a:moveTo>
                <a:lnTo>
                  <a:pt x="70547" y="0"/>
                </a:lnTo>
                <a:lnTo>
                  <a:pt x="69147" y="1400"/>
                </a:lnTo>
                <a:lnTo>
                  <a:pt x="1400" y="1400"/>
                </a:lnTo>
                <a:close/>
              </a:path>
              <a:path fill="darken" w="70547" h="21600">
                <a:moveTo>
                  <a:pt x="70547" y="0"/>
                </a:moveTo>
                <a:lnTo>
                  <a:pt x="70547" y="21600"/>
                </a:lnTo>
                <a:lnTo>
                  <a:pt x="69147" y="20200"/>
                </a:lnTo>
                <a:lnTo>
                  <a:pt x="69147" y="1400"/>
                </a:lnTo>
                <a:close/>
              </a:path>
              <a:path fill="darkenLess" w="70547" h="21600">
                <a:moveTo>
                  <a:pt x="70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147" y="20200"/>
                </a:lnTo>
                <a:close/>
              </a:path>
              <a:path fill="lighten" w="70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Dorma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457200"/>
            <a:ext cx="5181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an animal blends in with its surrounding habitat, it is 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5410080" y="2362320"/>
            <a:ext cx="3733920" cy="1143000"/>
          </a:xfrm>
          <a:custGeom>
            <a:avLst/>
            <a:gdLst>
              <a:gd name="textAreaLeft" fmla="*/ 73800 w 3733920"/>
              <a:gd name="textAreaRight" fmla="*/ 3660120 w 37339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70547" h="21600">
                <a:moveTo>
                  <a:pt x="0" y="0"/>
                </a:moveTo>
                <a:lnTo>
                  <a:pt x="70547" y="0"/>
                </a:lnTo>
                <a:lnTo>
                  <a:pt x="70547" y="21600"/>
                </a:lnTo>
                <a:lnTo>
                  <a:pt x="0" y="21600"/>
                </a:lnTo>
                <a:close/>
              </a:path>
              <a:path fill="lightenLess" w="70547" h="21600">
                <a:moveTo>
                  <a:pt x="0" y="0"/>
                </a:moveTo>
                <a:lnTo>
                  <a:pt x="70547" y="0"/>
                </a:lnTo>
                <a:lnTo>
                  <a:pt x="69147" y="1400"/>
                </a:lnTo>
                <a:lnTo>
                  <a:pt x="1400" y="1400"/>
                </a:lnTo>
                <a:close/>
              </a:path>
              <a:path fill="darken" w="70547" h="21600">
                <a:moveTo>
                  <a:pt x="70547" y="0"/>
                </a:moveTo>
                <a:lnTo>
                  <a:pt x="70547" y="21600"/>
                </a:lnTo>
                <a:lnTo>
                  <a:pt x="69147" y="20200"/>
                </a:lnTo>
                <a:lnTo>
                  <a:pt x="69147" y="1400"/>
                </a:lnTo>
                <a:close/>
              </a:path>
              <a:path fill="darkenLess" w="70547" h="21600">
                <a:moveTo>
                  <a:pt x="70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147" y="20200"/>
                </a:lnTo>
                <a:close/>
              </a:path>
              <a:path fill="lighten" w="70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Habi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5410080" y="3505320"/>
            <a:ext cx="3733920" cy="1143000"/>
          </a:xfrm>
          <a:custGeom>
            <a:avLst/>
            <a:gdLst>
              <a:gd name="textAreaLeft" fmla="*/ 73800 w 3733920"/>
              <a:gd name="textAreaRight" fmla="*/ 3660120 w 37339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70547" h="21600">
                <a:moveTo>
                  <a:pt x="0" y="0"/>
                </a:moveTo>
                <a:lnTo>
                  <a:pt x="70547" y="0"/>
                </a:lnTo>
                <a:lnTo>
                  <a:pt x="70547" y="21600"/>
                </a:lnTo>
                <a:lnTo>
                  <a:pt x="0" y="21600"/>
                </a:lnTo>
                <a:close/>
              </a:path>
              <a:path fill="lightenLess" w="70547" h="21600">
                <a:moveTo>
                  <a:pt x="0" y="0"/>
                </a:moveTo>
                <a:lnTo>
                  <a:pt x="70547" y="0"/>
                </a:lnTo>
                <a:lnTo>
                  <a:pt x="69147" y="1400"/>
                </a:lnTo>
                <a:lnTo>
                  <a:pt x="1400" y="1400"/>
                </a:lnTo>
                <a:close/>
              </a:path>
              <a:path fill="darken" w="70547" h="21600">
                <a:moveTo>
                  <a:pt x="70547" y="0"/>
                </a:moveTo>
                <a:lnTo>
                  <a:pt x="70547" y="21600"/>
                </a:lnTo>
                <a:lnTo>
                  <a:pt x="69147" y="20200"/>
                </a:lnTo>
                <a:lnTo>
                  <a:pt x="69147" y="1400"/>
                </a:lnTo>
                <a:close/>
              </a:path>
              <a:path fill="darkenLess" w="70547" h="21600">
                <a:moveTo>
                  <a:pt x="70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147" y="20200"/>
                </a:lnTo>
                <a:close/>
              </a:path>
              <a:path fill="lighten" w="70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Hib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5410080" y="4648320"/>
            <a:ext cx="3733920" cy="1143000"/>
          </a:xfrm>
          <a:custGeom>
            <a:avLst/>
            <a:gdLst>
              <a:gd name="textAreaLeft" fmla="*/ 73800 w 3733920"/>
              <a:gd name="textAreaRight" fmla="*/ 3660120 w 37339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70547" h="21600">
                <a:moveTo>
                  <a:pt x="0" y="0"/>
                </a:moveTo>
                <a:lnTo>
                  <a:pt x="70547" y="0"/>
                </a:lnTo>
                <a:lnTo>
                  <a:pt x="70547" y="21600"/>
                </a:lnTo>
                <a:lnTo>
                  <a:pt x="0" y="21600"/>
                </a:lnTo>
                <a:close/>
              </a:path>
              <a:path fill="lightenLess" w="70547" h="21600">
                <a:moveTo>
                  <a:pt x="0" y="0"/>
                </a:moveTo>
                <a:lnTo>
                  <a:pt x="70547" y="0"/>
                </a:lnTo>
                <a:lnTo>
                  <a:pt x="69147" y="1400"/>
                </a:lnTo>
                <a:lnTo>
                  <a:pt x="1400" y="1400"/>
                </a:lnTo>
                <a:close/>
              </a:path>
              <a:path fill="darken" w="70547" h="21600">
                <a:moveTo>
                  <a:pt x="70547" y="0"/>
                </a:moveTo>
                <a:lnTo>
                  <a:pt x="70547" y="21600"/>
                </a:lnTo>
                <a:lnTo>
                  <a:pt x="69147" y="20200"/>
                </a:lnTo>
                <a:lnTo>
                  <a:pt x="69147" y="1400"/>
                </a:lnTo>
                <a:close/>
              </a:path>
              <a:path fill="darkenLess" w="70547" h="21600">
                <a:moveTo>
                  <a:pt x="70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147" y="20200"/>
                </a:lnTo>
                <a:close/>
              </a:path>
              <a:path fill="lighten" w="70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Camoufla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eather va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tool used to show the direction the wind is blowing (North, South, East, or Wes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411360" y="1600200"/>
            <a:ext cx="1868760" cy="2944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28600" y="457200"/>
            <a:ext cx="86104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an animal blends in with its surrounding habitat, it is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amouflag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739152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0" y="3657600"/>
            <a:ext cx="3657600" cy="2419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4419720" y="3505320"/>
            <a:ext cx="236520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67816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81280" y="2819520"/>
            <a:ext cx="2124360" cy="18158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990720" y="609480"/>
            <a:ext cx="7315200" cy="137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Lucky Gues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21" name="">
            <a:hlinkClick r:id="rId3"/>
          </p:cNvPr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3leafclov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8600" y="457200"/>
            <a:ext cx="5867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an animal spends the winter sleeping, it is called 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6172200" y="1447920"/>
            <a:ext cx="2971800" cy="1143000"/>
          </a:xfrm>
          <a:custGeom>
            <a:avLst/>
            <a:gdLst>
              <a:gd name="textAreaLeft" fmla="*/ 73800 w 2971800"/>
              <a:gd name="textAreaRight" fmla="*/ 2898000 w 2971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6149" h="21600">
                <a:moveTo>
                  <a:pt x="0" y="0"/>
                </a:moveTo>
                <a:lnTo>
                  <a:pt x="56149" y="0"/>
                </a:lnTo>
                <a:lnTo>
                  <a:pt x="56149" y="21600"/>
                </a:lnTo>
                <a:lnTo>
                  <a:pt x="0" y="21600"/>
                </a:lnTo>
                <a:close/>
              </a:path>
              <a:path fill="lightenLess" w="56149" h="21600">
                <a:moveTo>
                  <a:pt x="0" y="0"/>
                </a:moveTo>
                <a:lnTo>
                  <a:pt x="56149" y="0"/>
                </a:lnTo>
                <a:lnTo>
                  <a:pt x="54749" y="1400"/>
                </a:lnTo>
                <a:lnTo>
                  <a:pt x="1400" y="1400"/>
                </a:lnTo>
                <a:close/>
              </a:path>
              <a:path fill="darken" w="56149" h="21600">
                <a:moveTo>
                  <a:pt x="56149" y="0"/>
                </a:moveTo>
                <a:lnTo>
                  <a:pt x="56149" y="21600"/>
                </a:lnTo>
                <a:lnTo>
                  <a:pt x="54749" y="20200"/>
                </a:lnTo>
                <a:lnTo>
                  <a:pt x="54749" y="1400"/>
                </a:lnTo>
                <a:close/>
              </a:path>
              <a:path fill="darkenLess" w="56149" h="21600">
                <a:moveTo>
                  <a:pt x="56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9" y="20200"/>
                </a:lnTo>
                <a:close/>
              </a:path>
              <a:path fill="lighten" w="56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Camouf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6172200" y="2514600"/>
            <a:ext cx="2971800" cy="1143000"/>
          </a:xfrm>
          <a:custGeom>
            <a:avLst/>
            <a:gdLst>
              <a:gd name="textAreaLeft" fmla="*/ 73800 w 2971800"/>
              <a:gd name="textAreaRight" fmla="*/ 2898000 w 2971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6149" h="21600">
                <a:moveTo>
                  <a:pt x="0" y="0"/>
                </a:moveTo>
                <a:lnTo>
                  <a:pt x="56149" y="0"/>
                </a:lnTo>
                <a:lnTo>
                  <a:pt x="56149" y="21600"/>
                </a:lnTo>
                <a:lnTo>
                  <a:pt x="0" y="21600"/>
                </a:lnTo>
                <a:close/>
              </a:path>
              <a:path fill="lightenLess" w="56149" h="21600">
                <a:moveTo>
                  <a:pt x="0" y="0"/>
                </a:moveTo>
                <a:lnTo>
                  <a:pt x="56149" y="0"/>
                </a:lnTo>
                <a:lnTo>
                  <a:pt x="54749" y="1400"/>
                </a:lnTo>
                <a:lnTo>
                  <a:pt x="1400" y="1400"/>
                </a:lnTo>
                <a:close/>
              </a:path>
              <a:path fill="darken" w="56149" h="21600">
                <a:moveTo>
                  <a:pt x="56149" y="0"/>
                </a:moveTo>
                <a:lnTo>
                  <a:pt x="56149" y="21600"/>
                </a:lnTo>
                <a:lnTo>
                  <a:pt x="54749" y="20200"/>
                </a:lnTo>
                <a:lnTo>
                  <a:pt x="54749" y="1400"/>
                </a:lnTo>
                <a:close/>
              </a:path>
              <a:path fill="darkenLess" w="56149" h="21600">
                <a:moveTo>
                  <a:pt x="56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9" y="20200"/>
                </a:lnTo>
                <a:close/>
              </a:path>
              <a:path fill="lighten" w="56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Hib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6172200" y="4648320"/>
            <a:ext cx="2971800" cy="1143000"/>
          </a:xfrm>
          <a:custGeom>
            <a:avLst/>
            <a:gdLst>
              <a:gd name="textAreaLeft" fmla="*/ 73800 w 2971800"/>
              <a:gd name="textAreaRight" fmla="*/ 2898000 w 2971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6149" h="21600">
                <a:moveTo>
                  <a:pt x="0" y="0"/>
                </a:moveTo>
                <a:lnTo>
                  <a:pt x="56149" y="0"/>
                </a:lnTo>
                <a:lnTo>
                  <a:pt x="56149" y="21600"/>
                </a:lnTo>
                <a:lnTo>
                  <a:pt x="0" y="21600"/>
                </a:lnTo>
                <a:close/>
              </a:path>
              <a:path fill="lightenLess" w="56149" h="21600">
                <a:moveTo>
                  <a:pt x="0" y="0"/>
                </a:moveTo>
                <a:lnTo>
                  <a:pt x="56149" y="0"/>
                </a:lnTo>
                <a:lnTo>
                  <a:pt x="54749" y="1400"/>
                </a:lnTo>
                <a:lnTo>
                  <a:pt x="1400" y="1400"/>
                </a:lnTo>
                <a:close/>
              </a:path>
              <a:path fill="darken" w="56149" h="21600">
                <a:moveTo>
                  <a:pt x="56149" y="0"/>
                </a:moveTo>
                <a:lnTo>
                  <a:pt x="56149" y="21600"/>
                </a:lnTo>
                <a:lnTo>
                  <a:pt x="54749" y="20200"/>
                </a:lnTo>
                <a:lnTo>
                  <a:pt x="54749" y="1400"/>
                </a:lnTo>
                <a:close/>
              </a:path>
              <a:path fill="darkenLess" w="56149" h="21600">
                <a:moveTo>
                  <a:pt x="56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9" y="20200"/>
                </a:lnTo>
                <a:close/>
              </a:path>
              <a:path fill="lighten" w="56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6172200" y="3657600"/>
            <a:ext cx="2971800" cy="1066680"/>
          </a:xfrm>
          <a:custGeom>
            <a:avLst/>
            <a:gdLst>
              <a:gd name="textAreaLeft" fmla="*/ 69120 w 2971800"/>
              <a:gd name="textAreaRight" fmla="*/ 2902680 w 2971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0165" h="21600">
                <a:moveTo>
                  <a:pt x="0" y="0"/>
                </a:moveTo>
                <a:lnTo>
                  <a:pt x="60165" y="0"/>
                </a:lnTo>
                <a:lnTo>
                  <a:pt x="60165" y="21600"/>
                </a:lnTo>
                <a:lnTo>
                  <a:pt x="0" y="21600"/>
                </a:lnTo>
                <a:close/>
              </a:path>
              <a:path fill="lightenLess" w="60165" h="21600">
                <a:moveTo>
                  <a:pt x="0" y="0"/>
                </a:moveTo>
                <a:lnTo>
                  <a:pt x="60165" y="0"/>
                </a:lnTo>
                <a:lnTo>
                  <a:pt x="58765" y="1400"/>
                </a:lnTo>
                <a:lnTo>
                  <a:pt x="1400" y="1400"/>
                </a:lnTo>
                <a:close/>
              </a:path>
              <a:path fill="darken" w="60165" h="21600">
                <a:moveTo>
                  <a:pt x="60165" y="0"/>
                </a:moveTo>
                <a:lnTo>
                  <a:pt x="60165" y="21600"/>
                </a:lnTo>
                <a:lnTo>
                  <a:pt x="58765" y="20200"/>
                </a:lnTo>
                <a:lnTo>
                  <a:pt x="58765" y="1400"/>
                </a:lnTo>
                <a:close/>
              </a:path>
              <a:path fill="darkenLess" w="60165" h="21600">
                <a:moveTo>
                  <a:pt x="60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765" y="20200"/>
                </a:lnTo>
                <a:close/>
              </a:path>
              <a:path fill="lighten" w="60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Habi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an animal spends the winter sleeping, it is called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hibern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64008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457200" y="3581280"/>
            <a:ext cx="4191120" cy="3013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67816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905120" y="1066680"/>
            <a:ext cx="2603520" cy="3619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57200" y="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You are so luck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rId3"/>
          </p:cNvPr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28600" y="4572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3808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 Topic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4343400" y="2514600"/>
            <a:ext cx="4800600" cy="1143000"/>
          </a:xfrm>
          <a:custGeom>
            <a:avLst/>
            <a:gdLst>
              <a:gd name="textAreaLeft" fmla="*/ 73800 w 4800600"/>
              <a:gd name="textAreaRight" fmla="*/ 4726800 w 4800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90698" h="21600">
                <a:moveTo>
                  <a:pt x="0" y="0"/>
                </a:moveTo>
                <a:lnTo>
                  <a:pt x="90698" y="0"/>
                </a:lnTo>
                <a:lnTo>
                  <a:pt x="90698" y="21600"/>
                </a:lnTo>
                <a:lnTo>
                  <a:pt x="0" y="21600"/>
                </a:lnTo>
                <a:close/>
              </a:path>
              <a:path fill="lightenLess" w="90698" h="21600">
                <a:moveTo>
                  <a:pt x="0" y="0"/>
                </a:moveTo>
                <a:lnTo>
                  <a:pt x="90698" y="0"/>
                </a:lnTo>
                <a:lnTo>
                  <a:pt x="89298" y="1400"/>
                </a:lnTo>
                <a:lnTo>
                  <a:pt x="1400" y="1400"/>
                </a:lnTo>
                <a:close/>
              </a:path>
              <a:path fill="darken" w="90698" h="21600">
                <a:moveTo>
                  <a:pt x="90698" y="0"/>
                </a:moveTo>
                <a:lnTo>
                  <a:pt x="90698" y="21600"/>
                </a:lnTo>
                <a:lnTo>
                  <a:pt x="89298" y="20200"/>
                </a:lnTo>
                <a:lnTo>
                  <a:pt x="89298" y="1400"/>
                </a:lnTo>
                <a:close/>
              </a:path>
              <a:path fill="darkenLess" w="90698" h="21600">
                <a:moveTo>
                  <a:pt x="90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98" y="20200"/>
                </a:lnTo>
                <a:close/>
              </a:path>
              <a:path fill="lighten" w="90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man"/>
              </a:rPr>
              <a:t>A. Wr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4343400" y="3581280"/>
            <a:ext cx="4800600" cy="1143000"/>
          </a:xfrm>
          <a:custGeom>
            <a:avLst/>
            <a:gdLst>
              <a:gd name="textAreaLeft" fmla="*/ 73800 w 4800600"/>
              <a:gd name="textAreaRight" fmla="*/ 4726800 w 4800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90698" h="21600">
                <a:moveTo>
                  <a:pt x="0" y="0"/>
                </a:moveTo>
                <a:lnTo>
                  <a:pt x="90698" y="0"/>
                </a:lnTo>
                <a:lnTo>
                  <a:pt x="90698" y="21600"/>
                </a:lnTo>
                <a:lnTo>
                  <a:pt x="0" y="21600"/>
                </a:lnTo>
                <a:close/>
              </a:path>
              <a:path fill="lightenLess" w="90698" h="21600">
                <a:moveTo>
                  <a:pt x="0" y="0"/>
                </a:moveTo>
                <a:lnTo>
                  <a:pt x="90698" y="0"/>
                </a:lnTo>
                <a:lnTo>
                  <a:pt x="89298" y="1400"/>
                </a:lnTo>
                <a:lnTo>
                  <a:pt x="1400" y="1400"/>
                </a:lnTo>
                <a:close/>
              </a:path>
              <a:path fill="darken" w="90698" h="21600">
                <a:moveTo>
                  <a:pt x="90698" y="0"/>
                </a:moveTo>
                <a:lnTo>
                  <a:pt x="90698" y="21600"/>
                </a:lnTo>
                <a:lnTo>
                  <a:pt x="89298" y="20200"/>
                </a:lnTo>
                <a:lnTo>
                  <a:pt x="89298" y="1400"/>
                </a:lnTo>
                <a:close/>
              </a:path>
              <a:path fill="darkenLess" w="90698" h="21600">
                <a:moveTo>
                  <a:pt x="90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98" y="20200"/>
                </a:lnTo>
                <a:close/>
              </a:path>
              <a:path fill="lighten" w="90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man"/>
              </a:rPr>
              <a:t>B. Wr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4343400" y="5715000"/>
            <a:ext cx="4800600" cy="1143000"/>
          </a:xfrm>
          <a:custGeom>
            <a:avLst/>
            <a:gdLst>
              <a:gd name="textAreaLeft" fmla="*/ 73800 w 4800600"/>
              <a:gd name="textAreaRight" fmla="*/ 4726800 w 4800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90698" h="21600">
                <a:moveTo>
                  <a:pt x="0" y="0"/>
                </a:moveTo>
                <a:lnTo>
                  <a:pt x="90698" y="0"/>
                </a:lnTo>
                <a:lnTo>
                  <a:pt x="90698" y="21600"/>
                </a:lnTo>
                <a:lnTo>
                  <a:pt x="0" y="21600"/>
                </a:lnTo>
                <a:close/>
              </a:path>
              <a:path fill="lightenLess" w="90698" h="21600">
                <a:moveTo>
                  <a:pt x="0" y="0"/>
                </a:moveTo>
                <a:lnTo>
                  <a:pt x="90698" y="0"/>
                </a:lnTo>
                <a:lnTo>
                  <a:pt x="89298" y="1400"/>
                </a:lnTo>
                <a:lnTo>
                  <a:pt x="1400" y="1400"/>
                </a:lnTo>
                <a:close/>
              </a:path>
              <a:path fill="darken" w="90698" h="21600">
                <a:moveTo>
                  <a:pt x="90698" y="0"/>
                </a:moveTo>
                <a:lnTo>
                  <a:pt x="90698" y="21600"/>
                </a:lnTo>
                <a:lnTo>
                  <a:pt x="89298" y="20200"/>
                </a:lnTo>
                <a:lnTo>
                  <a:pt x="89298" y="1400"/>
                </a:lnTo>
                <a:close/>
              </a:path>
              <a:path fill="darkenLess" w="90698" h="21600">
                <a:moveTo>
                  <a:pt x="90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98" y="20200"/>
                </a:lnTo>
                <a:close/>
              </a:path>
              <a:path fill="lighten" w="90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4343400" y="4724280"/>
            <a:ext cx="4800600" cy="1067040"/>
          </a:xfrm>
          <a:custGeom>
            <a:avLst/>
            <a:gdLst>
              <a:gd name="textAreaLeft" fmla="*/ 69120 w 4800600"/>
              <a:gd name="textAreaRight" fmla="*/ 4731480 w 48006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97153" h="21600">
                <a:moveTo>
                  <a:pt x="0" y="0"/>
                </a:moveTo>
                <a:lnTo>
                  <a:pt x="97153" y="0"/>
                </a:lnTo>
                <a:lnTo>
                  <a:pt x="97153" y="21600"/>
                </a:lnTo>
                <a:lnTo>
                  <a:pt x="0" y="21600"/>
                </a:lnTo>
                <a:close/>
              </a:path>
              <a:path fill="lightenLess" w="97153" h="21600">
                <a:moveTo>
                  <a:pt x="0" y="0"/>
                </a:moveTo>
                <a:lnTo>
                  <a:pt x="97153" y="0"/>
                </a:lnTo>
                <a:lnTo>
                  <a:pt x="95753" y="1400"/>
                </a:lnTo>
                <a:lnTo>
                  <a:pt x="1400" y="1400"/>
                </a:lnTo>
                <a:close/>
              </a:path>
              <a:path fill="darken" w="97153" h="21600">
                <a:moveTo>
                  <a:pt x="97153" y="0"/>
                </a:moveTo>
                <a:lnTo>
                  <a:pt x="97153" y="21600"/>
                </a:lnTo>
                <a:lnTo>
                  <a:pt x="95753" y="20200"/>
                </a:lnTo>
                <a:lnTo>
                  <a:pt x="95753" y="1400"/>
                </a:lnTo>
                <a:close/>
              </a:path>
              <a:path fill="darkenLess" w="97153" h="21600">
                <a:moveTo>
                  <a:pt x="971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53" y="20200"/>
                </a:lnTo>
                <a:close/>
              </a:path>
              <a:path fill="lighten" w="971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man"/>
              </a:rPr>
              <a:t>C. Cor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53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 5 Topic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143000" y="1981080"/>
            <a:ext cx="2550960" cy="27972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0" y="0"/>
            <a:ext cx="9144000" cy="1752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Your climbing so high!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5" name="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1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4419720" y="2971800"/>
            <a:ext cx="4724280" cy="990720"/>
          </a:xfrm>
          <a:custGeom>
            <a:avLst/>
            <a:gdLst>
              <a:gd name="textAreaLeft" fmla="*/ 64080 w 4724280"/>
              <a:gd name="textAreaRight" fmla="*/ 4660200 w 47242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02971" h="21600">
                <a:moveTo>
                  <a:pt x="0" y="0"/>
                </a:moveTo>
                <a:lnTo>
                  <a:pt x="102971" y="0"/>
                </a:lnTo>
                <a:lnTo>
                  <a:pt x="102971" y="21600"/>
                </a:lnTo>
                <a:lnTo>
                  <a:pt x="0" y="21600"/>
                </a:lnTo>
                <a:close/>
              </a:path>
              <a:path fill="lightenLess" w="102971" h="21600">
                <a:moveTo>
                  <a:pt x="0" y="0"/>
                </a:moveTo>
                <a:lnTo>
                  <a:pt x="102971" y="0"/>
                </a:lnTo>
                <a:lnTo>
                  <a:pt x="101571" y="1400"/>
                </a:lnTo>
                <a:lnTo>
                  <a:pt x="1400" y="1400"/>
                </a:lnTo>
                <a:close/>
              </a:path>
              <a:path fill="darken" w="102971" h="21600">
                <a:moveTo>
                  <a:pt x="102971" y="0"/>
                </a:moveTo>
                <a:lnTo>
                  <a:pt x="102971" y="21600"/>
                </a:lnTo>
                <a:lnTo>
                  <a:pt x="101571" y="20200"/>
                </a:lnTo>
                <a:lnTo>
                  <a:pt x="101571" y="1400"/>
                </a:lnTo>
                <a:close/>
              </a:path>
              <a:path fill="darkenLess" w="102971" h="21600">
                <a:moveTo>
                  <a:pt x="1029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571" y="20200"/>
                </a:lnTo>
                <a:close/>
              </a:path>
              <a:path fill="lighten" w="1029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4419720" y="3962520"/>
            <a:ext cx="4724280" cy="914400"/>
          </a:xfrm>
          <a:custGeom>
            <a:avLst/>
            <a:gdLst>
              <a:gd name="textAreaLeft" fmla="*/ 59040 w 4724280"/>
              <a:gd name="textAreaRight" fmla="*/ 4665240 w 4724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11562" h="21600">
                <a:moveTo>
                  <a:pt x="0" y="0"/>
                </a:moveTo>
                <a:lnTo>
                  <a:pt x="111562" y="0"/>
                </a:lnTo>
                <a:lnTo>
                  <a:pt x="111562" y="21600"/>
                </a:lnTo>
                <a:lnTo>
                  <a:pt x="0" y="21600"/>
                </a:lnTo>
                <a:close/>
              </a:path>
              <a:path fill="lightenLess" w="111562" h="21600">
                <a:moveTo>
                  <a:pt x="0" y="0"/>
                </a:moveTo>
                <a:lnTo>
                  <a:pt x="111562" y="0"/>
                </a:lnTo>
                <a:lnTo>
                  <a:pt x="110162" y="1400"/>
                </a:lnTo>
                <a:lnTo>
                  <a:pt x="1400" y="1400"/>
                </a:lnTo>
                <a:close/>
              </a:path>
              <a:path fill="darken" w="111562" h="21600">
                <a:moveTo>
                  <a:pt x="111562" y="0"/>
                </a:moveTo>
                <a:lnTo>
                  <a:pt x="111562" y="21600"/>
                </a:lnTo>
                <a:lnTo>
                  <a:pt x="110162" y="20200"/>
                </a:lnTo>
                <a:lnTo>
                  <a:pt x="110162" y="1400"/>
                </a:lnTo>
                <a:close/>
              </a:path>
              <a:path fill="darkenLess" w="111562" h="21600">
                <a:moveTo>
                  <a:pt x="1115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162" y="20200"/>
                </a:lnTo>
                <a:close/>
              </a:path>
              <a:path fill="lighten" w="1115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Wr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4419720" y="4876920"/>
            <a:ext cx="4724280" cy="990360"/>
          </a:xfrm>
          <a:custGeom>
            <a:avLst/>
            <a:gdLst>
              <a:gd name="textAreaLeft" fmla="*/ 64080 w 4724280"/>
              <a:gd name="textAreaRight" fmla="*/ 4660200 w 47242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03008" h="21600">
                <a:moveTo>
                  <a:pt x="0" y="0"/>
                </a:moveTo>
                <a:lnTo>
                  <a:pt x="103008" y="0"/>
                </a:lnTo>
                <a:lnTo>
                  <a:pt x="103008" y="21600"/>
                </a:lnTo>
                <a:lnTo>
                  <a:pt x="0" y="21600"/>
                </a:lnTo>
                <a:close/>
              </a:path>
              <a:path fill="lightenLess" w="103008" h="21600">
                <a:moveTo>
                  <a:pt x="0" y="0"/>
                </a:moveTo>
                <a:lnTo>
                  <a:pt x="103008" y="0"/>
                </a:lnTo>
                <a:lnTo>
                  <a:pt x="101608" y="1400"/>
                </a:lnTo>
                <a:lnTo>
                  <a:pt x="1400" y="1400"/>
                </a:lnTo>
                <a:close/>
              </a:path>
              <a:path fill="darken" w="103008" h="21600">
                <a:moveTo>
                  <a:pt x="103008" y="0"/>
                </a:moveTo>
                <a:lnTo>
                  <a:pt x="103008" y="21600"/>
                </a:lnTo>
                <a:lnTo>
                  <a:pt x="101608" y="20200"/>
                </a:lnTo>
                <a:lnTo>
                  <a:pt x="101608" y="1400"/>
                </a:lnTo>
                <a:close/>
              </a:path>
              <a:path fill="darkenLess" w="103008" h="21600">
                <a:moveTo>
                  <a:pt x="1030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08" y="20200"/>
                </a:lnTo>
                <a:close/>
              </a:path>
              <a:path fill="lighten" w="1030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4419720" y="5867280"/>
            <a:ext cx="4724280" cy="990720"/>
          </a:xfrm>
          <a:custGeom>
            <a:avLst/>
            <a:gdLst>
              <a:gd name="textAreaLeft" fmla="*/ 64080 w 4724280"/>
              <a:gd name="textAreaRight" fmla="*/ 4660200 w 47242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02971" h="21600">
                <a:moveTo>
                  <a:pt x="0" y="0"/>
                </a:moveTo>
                <a:lnTo>
                  <a:pt x="102971" y="0"/>
                </a:lnTo>
                <a:lnTo>
                  <a:pt x="102971" y="21600"/>
                </a:lnTo>
                <a:lnTo>
                  <a:pt x="0" y="21600"/>
                </a:lnTo>
                <a:close/>
              </a:path>
              <a:path fill="lightenLess" w="102971" h="21600">
                <a:moveTo>
                  <a:pt x="0" y="0"/>
                </a:moveTo>
                <a:lnTo>
                  <a:pt x="102971" y="0"/>
                </a:lnTo>
                <a:lnTo>
                  <a:pt x="101571" y="1400"/>
                </a:lnTo>
                <a:lnTo>
                  <a:pt x="1400" y="1400"/>
                </a:lnTo>
                <a:close/>
              </a:path>
              <a:path fill="darken" w="102971" h="21600">
                <a:moveTo>
                  <a:pt x="102971" y="0"/>
                </a:moveTo>
                <a:lnTo>
                  <a:pt x="102971" y="21600"/>
                </a:lnTo>
                <a:lnTo>
                  <a:pt x="101571" y="20200"/>
                </a:lnTo>
                <a:lnTo>
                  <a:pt x="101571" y="1400"/>
                </a:lnTo>
                <a:close/>
              </a:path>
              <a:path fill="darkenLess" w="102971" h="21600">
                <a:moveTo>
                  <a:pt x="1029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571" y="20200"/>
                </a:lnTo>
                <a:close/>
              </a:path>
              <a:path fill="lighten" w="1029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1 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304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swer 1 Topic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29000" y="2514600"/>
            <a:ext cx="2171880" cy="130320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09680" y="609480"/>
            <a:ext cx="4619880" cy="131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You’re too good to catch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752480" y="990720"/>
            <a:ext cx="2770200" cy="3886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1143000" y="0"/>
            <a:ext cx="7086600" cy="1905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rvelou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049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2 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5943600" y="152388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1" action="ppaction://hlinksldjump"/>
          </p:cNvPr>
          <p:cNvSpPr/>
          <p:nvPr/>
        </p:nvSpPr>
        <p:spPr>
          <a:xfrm>
            <a:off x="5943600" y="25146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5943600" y="342900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943600" y="4419720"/>
            <a:ext cx="3200400" cy="99036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69784" h="21600">
                <a:moveTo>
                  <a:pt x="0" y="0"/>
                </a:moveTo>
                <a:lnTo>
                  <a:pt x="69784" y="0"/>
                </a:lnTo>
                <a:lnTo>
                  <a:pt x="69784" y="21600"/>
                </a:lnTo>
                <a:lnTo>
                  <a:pt x="0" y="21600"/>
                </a:lnTo>
                <a:close/>
              </a:path>
              <a:path fill="lightenLess" w="69784" h="21600">
                <a:moveTo>
                  <a:pt x="0" y="0"/>
                </a:moveTo>
                <a:lnTo>
                  <a:pt x="69784" y="0"/>
                </a:lnTo>
                <a:lnTo>
                  <a:pt x="68384" y="1400"/>
                </a:lnTo>
                <a:lnTo>
                  <a:pt x="1400" y="1400"/>
                </a:lnTo>
                <a:close/>
              </a:path>
              <a:path fill="darken" w="69784" h="21600">
                <a:moveTo>
                  <a:pt x="69784" y="0"/>
                </a:moveTo>
                <a:lnTo>
                  <a:pt x="69784" y="21600"/>
                </a:lnTo>
                <a:lnTo>
                  <a:pt x="68384" y="20200"/>
                </a:lnTo>
                <a:lnTo>
                  <a:pt x="68384" y="1400"/>
                </a:lnTo>
                <a:close/>
              </a:path>
              <a:path fill="darkenLess" w="69784" h="21600">
                <a:moveTo>
                  <a:pt x="69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84" y="20200"/>
                </a:lnTo>
                <a:close/>
              </a:path>
              <a:path fill="lighten" w="69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3049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Answer 2 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1905120" y="2057400"/>
            <a:ext cx="2369880" cy="2976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0" y="0"/>
            <a:ext cx="9144000" cy="2133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Beautiful Day!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67" name="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219320" y="380880"/>
            <a:ext cx="6400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3 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3886200" y="2971800"/>
            <a:ext cx="5257800" cy="990720"/>
          </a:xfrm>
          <a:custGeom>
            <a:avLst/>
            <a:gdLst>
              <a:gd name="textAreaLeft" fmla="*/ 64080 w 5257800"/>
              <a:gd name="textAreaRight" fmla="*/ 5193720 w 5257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14598" h="21600">
                <a:moveTo>
                  <a:pt x="0" y="0"/>
                </a:moveTo>
                <a:lnTo>
                  <a:pt x="114598" y="0"/>
                </a:lnTo>
                <a:lnTo>
                  <a:pt x="114598" y="21600"/>
                </a:lnTo>
                <a:lnTo>
                  <a:pt x="0" y="21600"/>
                </a:lnTo>
                <a:close/>
              </a:path>
              <a:path fill="lightenLess" w="114598" h="21600">
                <a:moveTo>
                  <a:pt x="0" y="0"/>
                </a:moveTo>
                <a:lnTo>
                  <a:pt x="114598" y="0"/>
                </a:lnTo>
                <a:lnTo>
                  <a:pt x="113199" y="1400"/>
                </a:lnTo>
                <a:lnTo>
                  <a:pt x="1400" y="1400"/>
                </a:lnTo>
                <a:close/>
              </a:path>
              <a:path fill="darken" w="114598" h="21600">
                <a:moveTo>
                  <a:pt x="114598" y="0"/>
                </a:moveTo>
                <a:lnTo>
                  <a:pt x="114598" y="21600"/>
                </a:lnTo>
                <a:lnTo>
                  <a:pt x="113199" y="20200"/>
                </a:lnTo>
                <a:lnTo>
                  <a:pt x="113199" y="1400"/>
                </a:lnTo>
                <a:close/>
              </a:path>
              <a:path fill="darkenLess" w="114598" h="21600">
                <a:moveTo>
                  <a:pt x="114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199" y="20200"/>
                </a:lnTo>
                <a:close/>
              </a:path>
              <a:path fill="lighten" w="114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3886200" y="3962520"/>
            <a:ext cx="5257800" cy="914400"/>
          </a:xfrm>
          <a:custGeom>
            <a:avLst/>
            <a:gdLst>
              <a:gd name="textAreaLeft" fmla="*/ 59040 w 5257800"/>
              <a:gd name="textAreaRight" fmla="*/ 5198760 w 5257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4160" h="21600">
                <a:moveTo>
                  <a:pt x="0" y="0"/>
                </a:moveTo>
                <a:lnTo>
                  <a:pt x="124160" y="0"/>
                </a:lnTo>
                <a:lnTo>
                  <a:pt x="124160" y="21600"/>
                </a:lnTo>
                <a:lnTo>
                  <a:pt x="0" y="21600"/>
                </a:lnTo>
                <a:close/>
              </a:path>
              <a:path fill="lightenLess" w="124160" h="21600">
                <a:moveTo>
                  <a:pt x="0" y="0"/>
                </a:moveTo>
                <a:lnTo>
                  <a:pt x="124160" y="0"/>
                </a:lnTo>
                <a:lnTo>
                  <a:pt x="122760" y="1400"/>
                </a:lnTo>
                <a:lnTo>
                  <a:pt x="1400" y="1400"/>
                </a:lnTo>
                <a:close/>
              </a:path>
              <a:path fill="darken" w="124160" h="21600">
                <a:moveTo>
                  <a:pt x="124160" y="0"/>
                </a:moveTo>
                <a:lnTo>
                  <a:pt x="124160" y="21600"/>
                </a:lnTo>
                <a:lnTo>
                  <a:pt x="122760" y="20200"/>
                </a:lnTo>
                <a:lnTo>
                  <a:pt x="122760" y="1400"/>
                </a:lnTo>
                <a:close/>
              </a:path>
              <a:path fill="darkenLess" w="124160" h="21600">
                <a:moveTo>
                  <a:pt x="124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760" y="20200"/>
                </a:lnTo>
                <a:close/>
              </a:path>
              <a:path fill="lighten" w="124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3886200" y="4876920"/>
            <a:ext cx="5257800" cy="990360"/>
          </a:xfrm>
          <a:custGeom>
            <a:avLst/>
            <a:gdLst>
              <a:gd name="textAreaLeft" fmla="*/ 64080 w 5257800"/>
              <a:gd name="textAreaRight" fmla="*/ 5193720 w 5257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14640" h="21600">
                <a:moveTo>
                  <a:pt x="0" y="0"/>
                </a:moveTo>
                <a:lnTo>
                  <a:pt x="114640" y="0"/>
                </a:lnTo>
                <a:lnTo>
                  <a:pt x="114640" y="21600"/>
                </a:lnTo>
                <a:lnTo>
                  <a:pt x="0" y="21600"/>
                </a:lnTo>
                <a:close/>
              </a:path>
              <a:path fill="lightenLess" w="114640" h="21600">
                <a:moveTo>
                  <a:pt x="0" y="0"/>
                </a:moveTo>
                <a:lnTo>
                  <a:pt x="114640" y="0"/>
                </a:lnTo>
                <a:lnTo>
                  <a:pt x="113240" y="1400"/>
                </a:lnTo>
                <a:lnTo>
                  <a:pt x="1400" y="1400"/>
                </a:lnTo>
                <a:close/>
              </a:path>
              <a:path fill="darken" w="114640" h="21600">
                <a:moveTo>
                  <a:pt x="114640" y="0"/>
                </a:moveTo>
                <a:lnTo>
                  <a:pt x="114640" y="21600"/>
                </a:lnTo>
                <a:lnTo>
                  <a:pt x="113240" y="20200"/>
                </a:lnTo>
                <a:lnTo>
                  <a:pt x="113240" y="1400"/>
                </a:lnTo>
                <a:close/>
              </a:path>
              <a:path fill="darkenLess" w="114640" h="21600">
                <a:moveTo>
                  <a:pt x="1146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240" y="20200"/>
                </a:lnTo>
                <a:close/>
              </a:path>
              <a:path fill="lighten" w="1146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3886200" y="5867280"/>
            <a:ext cx="5257800" cy="990720"/>
          </a:xfrm>
          <a:custGeom>
            <a:avLst/>
            <a:gdLst>
              <a:gd name="textAreaLeft" fmla="*/ 64080 w 5257800"/>
              <a:gd name="textAreaRight" fmla="*/ 5193720 w 5257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14598" h="21600">
                <a:moveTo>
                  <a:pt x="0" y="0"/>
                </a:moveTo>
                <a:lnTo>
                  <a:pt x="114598" y="0"/>
                </a:lnTo>
                <a:lnTo>
                  <a:pt x="114598" y="21600"/>
                </a:lnTo>
                <a:lnTo>
                  <a:pt x="0" y="21600"/>
                </a:lnTo>
                <a:close/>
              </a:path>
              <a:path fill="lightenLess" w="114598" h="21600">
                <a:moveTo>
                  <a:pt x="0" y="0"/>
                </a:moveTo>
                <a:lnTo>
                  <a:pt x="114598" y="0"/>
                </a:lnTo>
                <a:lnTo>
                  <a:pt x="113199" y="1400"/>
                </a:lnTo>
                <a:lnTo>
                  <a:pt x="1400" y="1400"/>
                </a:lnTo>
                <a:close/>
              </a:path>
              <a:path fill="darken" w="114598" h="21600">
                <a:moveTo>
                  <a:pt x="114598" y="0"/>
                </a:moveTo>
                <a:lnTo>
                  <a:pt x="114598" y="21600"/>
                </a:lnTo>
                <a:lnTo>
                  <a:pt x="113199" y="20200"/>
                </a:lnTo>
                <a:lnTo>
                  <a:pt x="113199" y="1400"/>
                </a:lnTo>
                <a:close/>
              </a:path>
              <a:path fill="darkenLess" w="114598" h="21600">
                <a:moveTo>
                  <a:pt x="114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199" y="20200"/>
                </a:lnTo>
                <a:close/>
              </a:path>
              <a:path fill="lighten" w="114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 3 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4233960" cy="32749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209520" y="0"/>
            <a:ext cx="8934480" cy="1676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w Nuts, You're too good! 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"/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3808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4 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4800600" y="2666880"/>
            <a:ext cx="4343400" cy="990720"/>
          </a:xfrm>
          <a:custGeom>
            <a:avLst/>
            <a:gdLst>
              <a:gd name="textAreaLeft" fmla="*/ 64080 w 4343400"/>
              <a:gd name="textAreaRight" fmla="*/ 4279320 w 4343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94670" h="21600">
                <a:moveTo>
                  <a:pt x="0" y="0"/>
                </a:moveTo>
                <a:lnTo>
                  <a:pt x="94670" y="0"/>
                </a:lnTo>
                <a:lnTo>
                  <a:pt x="94670" y="21600"/>
                </a:lnTo>
                <a:lnTo>
                  <a:pt x="0" y="21600"/>
                </a:lnTo>
                <a:close/>
              </a:path>
              <a:path fill="lightenLess" w="94670" h="21600">
                <a:moveTo>
                  <a:pt x="0" y="0"/>
                </a:moveTo>
                <a:lnTo>
                  <a:pt x="94670" y="0"/>
                </a:lnTo>
                <a:lnTo>
                  <a:pt x="93270" y="1400"/>
                </a:lnTo>
                <a:lnTo>
                  <a:pt x="1400" y="1400"/>
                </a:lnTo>
                <a:close/>
              </a:path>
              <a:path fill="darken" w="94670" h="21600">
                <a:moveTo>
                  <a:pt x="94670" y="0"/>
                </a:moveTo>
                <a:lnTo>
                  <a:pt x="94670" y="21600"/>
                </a:lnTo>
                <a:lnTo>
                  <a:pt x="93270" y="20200"/>
                </a:lnTo>
                <a:lnTo>
                  <a:pt x="93270" y="1400"/>
                </a:lnTo>
                <a:close/>
              </a:path>
              <a:path fill="darkenLess" w="94670" h="21600">
                <a:moveTo>
                  <a:pt x="946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270" y="20200"/>
                </a:lnTo>
                <a:close/>
              </a:path>
              <a:path fill="lighten" w="946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Wr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4800600" y="3657600"/>
            <a:ext cx="4343400" cy="914400"/>
          </a:xfrm>
          <a:custGeom>
            <a:avLst/>
            <a:gdLst>
              <a:gd name="textAreaLeft" fmla="*/ 59040 w 4343400"/>
              <a:gd name="textAreaRight" fmla="*/ 4284360 w 4343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02568" h="21600">
                <a:moveTo>
                  <a:pt x="0" y="0"/>
                </a:moveTo>
                <a:lnTo>
                  <a:pt x="102568" y="0"/>
                </a:lnTo>
                <a:lnTo>
                  <a:pt x="102568" y="21600"/>
                </a:lnTo>
                <a:lnTo>
                  <a:pt x="0" y="21600"/>
                </a:lnTo>
                <a:close/>
              </a:path>
              <a:path fill="lightenLess" w="102568" h="21600">
                <a:moveTo>
                  <a:pt x="0" y="0"/>
                </a:moveTo>
                <a:lnTo>
                  <a:pt x="102568" y="0"/>
                </a:lnTo>
                <a:lnTo>
                  <a:pt x="101168" y="1400"/>
                </a:lnTo>
                <a:lnTo>
                  <a:pt x="1400" y="1400"/>
                </a:lnTo>
                <a:close/>
              </a:path>
              <a:path fill="darken" w="102568" h="21600">
                <a:moveTo>
                  <a:pt x="102568" y="0"/>
                </a:moveTo>
                <a:lnTo>
                  <a:pt x="102568" y="21600"/>
                </a:lnTo>
                <a:lnTo>
                  <a:pt x="101168" y="20200"/>
                </a:lnTo>
                <a:lnTo>
                  <a:pt x="101168" y="1400"/>
                </a:lnTo>
                <a:close/>
              </a:path>
              <a:path fill="darkenLess" w="102568" h="21600">
                <a:moveTo>
                  <a:pt x="102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168" y="20200"/>
                </a:lnTo>
                <a:close/>
              </a:path>
              <a:path fill="lighten" w="102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rId1" action="ppaction://hlinksldjump"/>
          </p:cNvPr>
          <p:cNvSpPr/>
          <p:nvPr/>
        </p:nvSpPr>
        <p:spPr>
          <a:xfrm>
            <a:off x="4800600" y="4572000"/>
            <a:ext cx="4343400" cy="990720"/>
          </a:xfrm>
          <a:custGeom>
            <a:avLst/>
            <a:gdLst>
              <a:gd name="textAreaLeft" fmla="*/ 64080 w 4343400"/>
              <a:gd name="textAreaRight" fmla="*/ 4279320 w 4343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94670" h="21600">
                <a:moveTo>
                  <a:pt x="0" y="0"/>
                </a:moveTo>
                <a:lnTo>
                  <a:pt x="94670" y="0"/>
                </a:lnTo>
                <a:lnTo>
                  <a:pt x="94670" y="21600"/>
                </a:lnTo>
                <a:lnTo>
                  <a:pt x="0" y="21600"/>
                </a:lnTo>
                <a:close/>
              </a:path>
              <a:path fill="lightenLess" w="94670" h="21600">
                <a:moveTo>
                  <a:pt x="0" y="0"/>
                </a:moveTo>
                <a:lnTo>
                  <a:pt x="94670" y="0"/>
                </a:lnTo>
                <a:lnTo>
                  <a:pt x="93270" y="1400"/>
                </a:lnTo>
                <a:lnTo>
                  <a:pt x="1400" y="1400"/>
                </a:lnTo>
                <a:close/>
              </a:path>
              <a:path fill="darken" w="94670" h="21600">
                <a:moveTo>
                  <a:pt x="94670" y="0"/>
                </a:moveTo>
                <a:lnTo>
                  <a:pt x="94670" y="21600"/>
                </a:lnTo>
                <a:lnTo>
                  <a:pt x="93270" y="20200"/>
                </a:lnTo>
                <a:lnTo>
                  <a:pt x="93270" y="1400"/>
                </a:lnTo>
                <a:close/>
              </a:path>
              <a:path fill="darkenLess" w="94670" h="21600">
                <a:moveTo>
                  <a:pt x="946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270" y="20200"/>
                </a:lnTo>
                <a:close/>
              </a:path>
              <a:path fill="lighten" w="946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Corr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" action="ppaction://hlinkshowjump?jump=nextslide"/>
          </p:cNvPr>
          <p:cNvSpPr/>
          <p:nvPr/>
        </p:nvSpPr>
        <p:spPr>
          <a:xfrm>
            <a:off x="4800600" y="5562720"/>
            <a:ext cx="4343400" cy="990360"/>
          </a:xfrm>
          <a:custGeom>
            <a:avLst/>
            <a:gdLst>
              <a:gd name="textAreaLeft" fmla="*/ 64080 w 4343400"/>
              <a:gd name="textAreaRight" fmla="*/ 4279320 w 4343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94704" h="21600">
                <a:moveTo>
                  <a:pt x="0" y="0"/>
                </a:moveTo>
                <a:lnTo>
                  <a:pt x="94704" y="0"/>
                </a:lnTo>
                <a:lnTo>
                  <a:pt x="94704" y="21600"/>
                </a:lnTo>
                <a:lnTo>
                  <a:pt x="0" y="21600"/>
                </a:lnTo>
                <a:close/>
              </a:path>
              <a:path fill="lightenLess" w="94704" h="21600">
                <a:moveTo>
                  <a:pt x="0" y="0"/>
                </a:moveTo>
                <a:lnTo>
                  <a:pt x="94704" y="0"/>
                </a:lnTo>
                <a:lnTo>
                  <a:pt x="93304" y="1400"/>
                </a:lnTo>
                <a:lnTo>
                  <a:pt x="1400" y="1400"/>
                </a:lnTo>
                <a:close/>
              </a:path>
              <a:path fill="darken" w="94704" h="21600">
                <a:moveTo>
                  <a:pt x="94704" y="0"/>
                </a:moveTo>
                <a:lnTo>
                  <a:pt x="94704" y="21600"/>
                </a:lnTo>
                <a:lnTo>
                  <a:pt x="93304" y="20200"/>
                </a:lnTo>
                <a:lnTo>
                  <a:pt x="93304" y="1400"/>
                </a:lnTo>
                <a:close/>
              </a:path>
              <a:path fill="darkenLess" w="94704" h="21600">
                <a:moveTo>
                  <a:pt x="9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304" y="20200"/>
                </a:lnTo>
                <a:close/>
              </a:path>
              <a:path fill="lighten" w="9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4 Topic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3336840" cy="22240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28600" y="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9900"/>
                </a:solidFill>
                <a:latin typeface="Times New Roman"/>
              </a:rPr>
              <a:t>I hope children never loose their sense of wonder and peac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2286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____________ is a tool used to measure the amount of rain that has fal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3505320" y="2438280"/>
            <a:ext cx="5638680" cy="990720"/>
          </a:xfrm>
          <a:custGeom>
            <a:avLst/>
            <a:gdLst>
              <a:gd name="textAreaLeft" fmla="*/ 64080 w 5638680"/>
              <a:gd name="textAreaRight" fmla="*/ 5574600 w 5638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22900" h="21600">
                <a:moveTo>
                  <a:pt x="0" y="0"/>
                </a:moveTo>
                <a:lnTo>
                  <a:pt x="122900" y="0"/>
                </a:lnTo>
                <a:lnTo>
                  <a:pt x="122900" y="21600"/>
                </a:lnTo>
                <a:lnTo>
                  <a:pt x="0" y="21600"/>
                </a:lnTo>
                <a:close/>
              </a:path>
              <a:path fill="lightenLess" w="122900" h="21600">
                <a:moveTo>
                  <a:pt x="0" y="0"/>
                </a:moveTo>
                <a:lnTo>
                  <a:pt x="122900" y="0"/>
                </a:lnTo>
                <a:lnTo>
                  <a:pt x="121500" y="1400"/>
                </a:lnTo>
                <a:lnTo>
                  <a:pt x="1400" y="1400"/>
                </a:lnTo>
                <a:close/>
              </a:path>
              <a:path fill="darken" w="122900" h="21600">
                <a:moveTo>
                  <a:pt x="122900" y="0"/>
                </a:moveTo>
                <a:lnTo>
                  <a:pt x="122900" y="21600"/>
                </a:lnTo>
                <a:lnTo>
                  <a:pt x="121500" y="20200"/>
                </a:lnTo>
                <a:lnTo>
                  <a:pt x="121500" y="1400"/>
                </a:lnTo>
                <a:close/>
              </a:path>
              <a:path fill="darkenLess" w="122900" h="21600">
                <a:moveTo>
                  <a:pt x="122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00" y="20200"/>
                </a:lnTo>
                <a:close/>
              </a:path>
              <a:path fill="lighten" w="122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Therm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3505320" y="4419720"/>
            <a:ext cx="5638680" cy="990360"/>
          </a:xfrm>
          <a:custGeom>
            <a:avLst/>
            <a:gdLst>
              <a:gd name="textAreaLeft" fmla="*/ 64080 w 5638680"/>
              <a:gd name="textAreaRight" fmla="*/ 5574600 w 56386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22944" h="21600">
                <a:moveTo>
                  <a:pt x="0" y="0"/>
                </a:moveTo>
                <a:lnTo>
                  <a:pt x="122944" y="0"/>
                </a:lnTo>
                <a:lnTo>
                  <a:pt x="122944" y="21600"/>
                </a:lnTo>
                <a:lnTo>
                  <a:pt x="0" y="21600"/>
                </a:lnTo>
                <a:close/>
              </a:path>
              <a:path fill="lightenLess" w="122944" h="21600">
                <a:moveTo>
                  <a:pt x="0" y="0"/>
                </a:moveTo>
                <a:lnTo>
                  <a:pt x="122944" y="0"/>
                </a:lnTo>
                <a:lnTo>
                  <a:pt x="121544" y="1400"/>
                </a:lnTo>
                <a:lnTo>
                  <a:pt x="1400" y="1400"/>
                </a:lnTo>
                <a:close/>
              </a:path>
              <a:path fill="darken" w="122944" h="21600">
                <a:moveTo>
                  <a:pt x="122944" y="0"/>
                </a:moveTo>
                <a:lnTo>
                  <a:pt x="122944" y="21600"/>
                </a:lnTo>
                <a:lnTo>
                  <a:pt x="121544" y="20200"/>
                </a:lnTo>
                <a:lnTo>
                  <a:pt x="121544" y="1400"/>
                </a:lnTo>
                <a:close/>
              </a:path>
              <a:path fill="darkenLess" w="122944" h="21600">
                <a:moveTo>
                  <a:pt x="122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44" y="20200"/>
                </a:lnTo>
                <a:close/>
              </a:path>
              <a:path fill="lighten" w="122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Bar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3505320" y="3429000"/>
            <a:ext cx="5638680" cy="990720"/>
          </a:xfrm>
          <a:custGeom>
            <a:avLst/>
            <a:gdLst>
              <a:gd name="textAreaLeft" fmla="*/ 64080 w 5638680"/>
              <a:gd name="textAreaRight" fmla="*/ 5574600 w 5638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22900" h="21600">
                <a:moveTo>
                  <a:pt x="0" y="0"/>
                </a:moveTo>
                <a:lnTo>
                  <a:pt x="122900" y="0"/>
                </a:lnTo>
                <a:lnTo>
                  <a:pt x="122900" y="21600"/>
                </a:lnTo>
                <a:lnTo>
                  <a:pt x="0" y="21600"/>
                </a:lnTo>
                <a:close/>
              </a:path>
              <a:path fill="lightenLess" w="122900" h="21600">
                <a:moveTo>
                  <a:pt x="0" y="0"/>
                </a:moveTo>
                <a:lnTo>
                  <a:pt x="122900" y="0"/>
                </a:lnTo>
                <a:lnTo>
                  <a:pt x="121500" y="1400"/>
                </a:lnTo>
                <a:lnTo>
                  <a:pt x="1400" y="1400"/>
                </a:lnTo>
                <a:close/>
              </a:path>
              <a:path fill="darken" w="122900" h="21600">
                <a:moveTo>
                  <a:pt x="122900" y="0"/>
                </a:moveTo>
                <a:lnTo>
                  <a:pt x="122900" y="21600"/>
                </a:lnTo>
                <a:lnTo>
                  <a:pt x="121500" y="20200"/>
                </a:lnTo>
                <a:lnTo>
                  <a:pt x="121500" y="1400"/>
                </a:lnTo>
                <a:close/>
              </a:path>
              <a:path fill="darkenLess" w="122900" h="21600">
                <a:moveTo>
                  <a:pt x="122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00" y="20200"/>
                </a:lnTo>
                <a:close/>
              </a:path>
              <a:path fill="lighten" w="122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eather v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3505320" y="1447920"/>
            <a:ext cx="5638680" cy="990360"/>
          </a:xfrm>
          <a:custGeom>
            <a:avLst/>
            <a:gdLst>
              <a:gd name="textAreaLeft" fmla="*/ 64080 w 5638680"/>
              <a:gd name="textAreaRight" fmla="*/ 5574600 w 56386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22944" h="21600">
                <a:moveTo>
                  <a:pt x="0" y="0"/>
                </a:moveTo>
                <a:lnTo>
                  <a:pt x="122944" y="0"/>
                </a:lnTo>
                <a:lnTo>
                  <a:pt x="122944" y="21600"/>
                </a:lnTo>
                <a:lnTo>
                  <a:pt x="0" y="21600"/>
                </a:lnTo>
                <a:close/>
              </a:path>
              <a:path fill="lightenLess" w="122944" h="21600">
                <a:moveTo>
                  <a:pt x="0" y="0"/>
                </a:moveTo>
                <a:lnTo>
                  <a:pt x="122944" y="0"/>
                </a:lnTo>
                <a:lnTo>
                  <a:pt x="121544" y="1400"/>
                </a:lnTo>
                <a:lnTo>
                  <a:pt x="1400" y="1400"/>
                </a:lnTo>
                <a:close/>
              </a:path>
              <a:path fill="darken" w="122944" h="21600">
                <a:moveTo>
                  <a:pt x="122944" y="0"/>
                </a:moveTo>
                <a:lnTo>
                  <a:pt x="122944" y="21600"/>
                </a:lnTo>
                <a:lnTo>
                  <a:pt x="121544" y="20200"/>
                </a:lnTo>
                <a:lnTo>
                  <a:pt x="121544" y="1400"/>
                </a:lnTo>
                <a:close/>
              </a:path>
              <a:path fill="darkenLess" w="122944" h="21600">
                <a:moveTo>
                  <a:pt x="122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44" y="20200"/>
                </a:lnTo>
                <a:close/>
              </a:path>
              <a:path fill="lighten" w="122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Rain ga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762120" y="3049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5 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4572000" y="2286000"/>
            <a:ext cx="4343400" cy="990720"/>
          </a:xfrm>
          <a:custGeom>
            <a:avLst/>
            <a:gdLst>
              <a:gd name="textAreaLeft" fmla="*/ 64080 w 4343400"/>
              <a:gd name="textAreaRight" fmla="*/ 4279320 w 4343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94670" h="21600">
                <a:moveTo>
                  <a:pt x="0" y="0"/>
                </a:moveTo>
                <a:lnTo>
                  <a:pt x="94670" y="0"/>
                </a:lnTo>
                <a:lnTo>
                  <a:pt x="94670" y="21600"/>
                </a:lnTo>
                <a:lnTo>
                  <a:pt x="0" y="21600"/>
                </a:lnTo>
                <a:close/>
              </a:path>
              <a:path fill="lightenLess" w="94670" h="21600">
                <a:moveTo>
                  <a:pt x="0" y="0"/>
                </a:moveTo>
                <a:lnTo>
                  <a:pt x="94670" y="0"/>
                </a:lnTo>
                <a:lnTo>
                  <a:pt x="93270" y="1400"/>
                </a:lnTo>
                <a:lnTo>
                  <a:pt x="1400" y="1400"/>
                </a:lnTo>
                <a:close/>
              </a:path>
              <a:path fill="darken" w="94670" h="21600">
                <a:moveTo>
                  <a:pt x="94670" y="0"/>
                </a:moveTo>
                <a:lnTo>
                  <a:pt x="94670" y="21600"/>
                </a:lnTo>
                <a:lnTo>
                  <a:pt x="93270" y="20200"/>
                </a:lnTo>
                <a:lnTo>
                  <a:pt x="93270" y="1400"/>
                </a:lnTo>
                <a:close/>
              </a:path>
              <a:path fill="darkenLess" w="94670" h="21600">
                <a:moveTo>
                  <a:pt x="946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270" y="20200"/>
                </a:lnTo>
                <a:close/>
              </a:path>
              <a:path fill="lighten" w="946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4572000" y="3276720"/>
            <a:ext cx="4343400" cy="914400"/>
          </a:xfrm>
          <a:custGeom>
            <a:avLst/>
            <a:gdLst>
              <a:gd name="textAreaLeft" fmla="*/ 59040 w 4343400"/>
              <a:gd name="textAreaRight" fmla="*/ 4284360 w 4343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02568" h="21600">
                <a:moveTo>
                  <a:pt x="0" y="0"/>
                </a:moveTo>
                <a:lnTo>
                  <a:pt x="102568" y="0"/>
                </a:lnTo>
                <a:lnTo>
                  <a:pt x="102568" y="21600"/>
                </a:lnTo>
                <a:lnTo>
                  <a:pt x="0" y="21600"/>
                </a:lnTo>
                <a:close/>
              </a:path>
              <a:path fill="lightenLess" w="102568" h="21600">
                <a:moveTo>
                  <a:pt x="0" y="0"/>
                </a:moveTo>
                <a:lnTo>
                  <a:pt x="102568" y="0"/>
                </a:lnTo>
                <a:lnTo>
                  <a:pt x="101168" y="1400"/>
                </a:lnTo>
                <a:lnTo>
                  <a:pt x="1400" y="1400"/>
                </a:lnTo>
                <a:close/>
              </a:path>
              <a:path fill="darken" w="102568" h="21600">
                <a:moveTo>
                  <a:pt x="102568" y="0"/>
                </a:moveTo>
                <a:lnTo>
                  <a:pt x="102568" y="21600"/>
                </a:lnTo>
                <a:lnTo>
                  <a:pt x="101168" y="20200"/>
                </a:lnTo>
                <a:lnTo>
                  <a:pt x="101168" y="1400"/>
                </a:lnTo>
                <a:close/>
              </a:path>
              <a:path fill="darkenLess" w="102568" h="21600">
                <a:moveTo>
                  <a:pt x="102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168" y="20200"/>
                </a:lnTo>
                <a:close/>
              </a:path>
              <a:path fill="lighten" w="102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4572000" y="4191120"/>
            <a:ext cx="4343400" cy="990360"/>
          </a:xfrm>
          <a:custGeom>
            <a:avLst/>
            <a:gdLst>
              <a:gd name="textAreaLeft" fmla="*/ 64080 w 4343400"/>
              <a:gd name="textAreaRight" fmla="*/ 4279320 w 4343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94704" h="21600">
                <a:moveTo>
                  <a:pt x="0" y="0"/>
                </a:moveTo>
                <a:lnTo>
                  <a:pt x="94704" y="0"/>
                </a:lnTo>
                <a:lnTo>
                  <a:pt x="94704" y="21600"/>
                </a:lnTo>
                <a:lnTo>
                  <a:pt x="0" y="21600"/>
                </a:lnTo>
                <a:close/>
              </a:path>
              <a:path fill="lightenLess" w="94704" h="21600">
                <a:moveTo>
                  <a:pt x="0" y="0"/>
                </a:moveTo>
                <a:lnTo>
                  <a:pt x="94704" y="0"/>
                </a:lnTo>
                <a:lnTo>
                  <a:pt x="93304" y="1400"/>
                </a:lnTo>
                <a:lnTo>
                  <a:pt x="1400" y="1400"/>
                </a:lnTo>
                <a:close/>
              </a:path>
              <a:path fill="darken" w="94704" h="21600">
                <a:moveTo>
                  <a:pt x="94704" y="0"/>
                </a:moveTo>
                <a:lnTo>
                  <a:pt x="94704" y="21600"/>
                </a:lnTo>
                <a:lnTo>
                  <a:pt x="93304" y="20200"/>
                </a:lnTo>
                <a:lnTo>
                  <a:pt x="93304" y="1400"/>
                </a:lnTo>
                <a:close/>
              </a:path>
              <a:path fill="darkenLess" w="94704" h="21600">
                <a:moveTo>
                  <a:pt x="9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304" y="20200"/>
                </a:lnTo>
                <a:close/>
              </a:path>
              <a:path fill="lighten" w="9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>
            <a:hlinkClick r:id="rId1" action="ppaction://hlinksldjump"/>
          </p:cNvPr>
          <p:cNvSpPr/>
          <p:nvPr/>
        </p:nvSpPr>
        <p:spPr>
          <a:xfrm>
            <a:off x="4572000" y="5181480"/>
            <a:ext cx="4343400" cy="990720"/>
          </a:xfrm>
          <a:custGeom>
            <a:avLst/>
            <a:gdLst>
              <a:gd name="textAreaLeft" fmla="*/ 64080 w 4343400"/>
              <a:gd name="textAreaRight" fmla="*/ 4279320 w 4343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94670" h="21600">
                <a:moveTo>
                  <a:pt x="0" y="0"/>
                </a:moveTo>
                <a:lnTo>
                  <a:pt x="94670" y="0"/>
                </a:lnTo>
                <a:lnTo>
                  <a:pt x="94670" y="21600"/>
                </a:lnTo>
                <a:lnTo>
                  <a:pt x="0" y="21600"/>
                </a:lnTo>
                <a:close/>
              </a:path>
              <a:path fill="lightenLess" w="94670" h="21600">
                <a:moveTo>
                  <a:pt x="0" y="0"/>
                </a:moveTo>
                <a:lnTo>
                  <a:pt x="94670" y="0"/>
                </a:lnTo>
                <a:lnTo>
                  <a:pt x="93270" y="1400"/>
                </a:lnTo>
                <a:lnTo>
                  <a:pt x="1400" y="1400"/>
                </a:lnTo>
                <a:close/>
              </a:path>
              <a:path fill="darken" w="94670" h="21600">
                <a:moveTo>
                  <a:pt x="94670" y="0"/>
                </a:moveTo>
                <a:lnTo>
                  <a:pt x="94670" y="21600"/>
                </a:lnTo>
                <a:lnTo>
                  <a:pt x="93270" y="20200"/>
                </a:lnTo>
                <a:lnTo>
                  <a:pt x="93270" y="1400"/>
                </a:lnTo>
                <a:close/>
              </a:path>
              <a:path fill="darkenLess" w="94670" h="21600">
                <a:moveTo>
                  <a:pt x="946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270" y="20200"/>
                </a:lnTo>
                <a:close/>
              </a:path>
              <a:path fill="lighten" w="946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57200" y="3808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 5 Topic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2120" y="0"/>
            <a:ext cx="7696080" cy="228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XCELLEN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3057480" cy="23446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1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77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770" fill="hold"/>
                                        <p:tgtEl>
                                          <p:spTgt spid="2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295280" y="380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1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4038480" y="2666880"/>
            <a:ext cx="4800600" cy="990720"/>
          </a:xfrm>
          <a:custGeom>
            <a:avLst/>
            <a:gdLst>
              <a:gd name="textAreaLeft" fmla="*/ 64080 w 4800600"/>
              <a:gd name="textAreaRight" fmla="*/ 4736520 w 4800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04634" h="21600">
                <a:moveTo>
                  <a:pt x="0" y="0"/>
                </a:moveTo>
                <a:lnTo>
                  <a:pt x="104634" y="0"/>
                </a:lnTo>
                <a:lnTo>
                  <a:pt x="104634" y="21600"/>
                </a:lnTo>
                <a:lnTo>
                  <a:pt x="0" y="21600"/>
                </a:lnTo>
                <a:close/>
              </a:path>
              <a:path fill="lightenLess" w="104634" h="21600">
                <a:moveTo>
                  <a:pt x="0" y="0"/>
                </a:moveTo>
                <a:lnTo>
                  <a:pt x="104634" y="0"/>
                </a:lnTo>
                <a:lnTo>
                  <a:pt x="103234" y="1400"/>
                </a:lnTo>
                <a:lnTo>
                  <a:pt x="1400" y="1400"/>
                </a:lnTo>
                <a:close/>
              </a:path>
              <a:path fill="darken" w="104634" h="21600">
                <a:moveTo>
                  <a:pt x="104634" y="0"/>
                </a:moveTo>
                <a:lnTo>
                  <a:pt x="104634" y="21600"/>
                </a:lnTo>
                <a:lnTo>
                  <a:pt x="103234" y="20200"/>
                </a:lnTo>
                <a:lnTo>
                  <a:pt x="103234" y="1400"/>
                </a:lnTo>
                <a:close/>
              </a:path>
              <a:path fill="darkenLess" w="104634" h="21600">
                <a:moveTo>
                  <a:pt x="104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234" y="20200"/>
                </a:lnTo>
                <a:close/>
              </a:path>
              <a:path fill="lighten" w="104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>
            <a:hlinkClick r:id="" action="ppaction://hlinkshowjump?jump=nextslide"/>
          </p:cNvPr>
          <p:cNvSpPr/>
          <p:nvPr/>
        </p:nvSpPr>
        <p:spPr>
          <a:xfrm>
            <a:off x="4038480" y="3657600"/>
            <a:ext cx="4800600" cy="914400"/>
          </a:xfrm>
          <a:custGeom>
            <a:avLst/>
            <a:gdLst>
              <a:gd name="textAreaLeft" fmla="*/ 59040 w 4800600"/>
              <a:gd name="textAreaRight" fmla="*/ 4741560 w 4800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13364" h="21600">
                <a:moveTo>
                  <a:pt x="0" y="0"/>
                </a:moveTo>
                <a:lnTo>
                  <a:pt x="113364" y="0"/>
                </a:lnTo>
                <a:lnTo>
                  <a:pt x="113364" y="21600"/>
                </a:lnTo>
                <a:lnTo>
                  <a:pt x="0" y="21600"/>
                </a:lnTo>
                <a:close/>
              </a:path>
              <a:path fill="lightenLess" w="113364" h="21600">
                <a:moveTo>
                  <a:pt x="0" y="0"/>
                </a:moveTo>
                <a:lnTo>
                  <a:pt x="113364" y="0"/>
                </a:lnTo>
                <a:lnTo>
                  <a:pt x="111964" y="1400"/>
                </a:lnTo>
                <a:lnTo>
                  <a:pt x="1400" y="1400"/>
                </a:lnTo>
                <a:close/>
              </a:path>
              <a:path fill="darken" w="113364" h="21600">
                <a:moveTo>
                  <a:pt x="113364" y="0"/>
                </a:moveTo>
                <a:lnTo>
                  <a:pt x="113364" y="21600"/>
                </a:lnTo>
                <a:lnTo>
                  <a:pt x="111964" y="20200"/>
                </a:lnTo>
                <a:lnTo>
                  <a:pt x="111964" y="1400"/>
                </a:lnTo>
                <a:close/>
              </a:path>
              <a:path fill="darkenLess" w="113364" h="21600">
                <a:moveTo>
                  <a:pt x="11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964" y="20200"/>
                </a:lnTo>
                <a:close/>
              </a:path>
              <a:path fill="lighten" w="11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4038480" y="4572000"/>
            <a:ext cx="4800600" cy="990720"/>
          </a:xfrm>
          <a:custGeom>
            <a:avLst/>
            <a:gdLst>
              <a:gd name="textAreaLeft" fmla="*/ 64080 w 4800600"/>
              <a:gd name="textAreaRight" fmla="*/ 4736520 w 4800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04634" h="21600">
                <a:moveTo>
                  <a:pt x="0" y="0"/>
                </a:moveTo>
                <a:lnTo>
                  <a:pt x="104634" y="0"/>
                </a:lnTo>
                <a:lnTo>
                  <a:pt x="104634" y="21600"/>
                </a:lnTo>
                <a:lnTo>
                  <a:pt x="0" y="21600"/>
                </a:lnTo>
                <a:close/>
              </a:path>
              <a:path fill="lightenLess" w="104634" h="21600">
                <a:moveTo>
                  <a:pt x="0" y="0"/>
                </a:moveTo>
                <a:lnTo>
                  <a:pt x="104634" y="0"/>
                </a:lnTo>
                <a:lnTo>
                  <a:pt x="103234" y="1400"/>
                </a:lnTo>
                <a:lnTo>
                  <a:pt x="1400" y="1400"/>
                </a:lnTo>
                <a:close/>
              </a:path>
              <a:path fill="darken" w="104634" h="21600">
                <a:moveTo>
                  <a:pt x="104634" y="0"/>
                </a:moveTo>
                <a:lnTo>
                  <a:pt x="104634" y="21600"/>
                </a:lnTo>
                <a:lnTo>
                  <a:pt x="103234" y="20200"/>
                </a:lnTo>
                <a:lnTo>
                  <a:pt x="103234" y="1400"/>
                </a:lnTo>
                <a:close/>
              </a:path>
              <a:path fill="darkenLess" w="104634" h="21600">
                <a:moveTo>
                  <a:pt x="104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234" y="20200"/>
                </a:lnTo>
                <a:close/>
              </a:path>
              <a:path fill="lighten" w="104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4038480" y="5562720"/>
            <a:ext cx="4800600" cy="990360"/>
          </a:xfrm>
          <a:custGeom>
            <a:avLst/>
            <a:gdLst>
              <a:gd name="textAreaLeft" fmla="*/ 64080 w 4800600"/>
              <a:gd name="textAreaRight" fmla="*/ 4736520 w 48006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04672" h="21600">
                <a:moveTo>
                  <a:pt x="0" y="0"/>
                </a:moveTo>
                <a:lnTo>
                  <a:pt x="104672" y="0"/>
                </a:lnTo>
                <a:lnTo>
                  <a:pt x="104672" y="21600"/>
                </a:lnTo>
                <a:lnTo>
                  <a:pt x="0" y="21600"/>
                </a:lnTo>
                <a:close/>
              </a:path>
              <a:path fill="lightenLess" w="104672" h="21600">
                <a:moveTo>
                  <a:pt x="0" y="0"/>
                </a:moveTo>
                <a:lnTo>
                  <a:pt x="104672" y="0"/>
                </a:lnTo>
                <a:lnTo>
                  <a:pt x="103272" y="1400"/>
                </a:lnTo>
                <a:lnTo>
                  <a:pt x="1400" y="1400"/>
                </a:lnTo>
                <a:close/>
              </a:path>
              <a:path fill="darken" w="104672" h="21600">
                <a:moveTo>
                  <a:pt x="104672" y="0"/>
                </a:moveTo>
                <a:lnTo>
                  <a:pt x="104672" y="21600"/>
                </a:lnTo>
                <a:lnTo>
                  <a:pt x="103272" y="20200"/>
                </a:lnTo>
                <a:lnTo>
                  <a:pt x="103272" y="1400"/>
                </a:lnTo>
                <a:close/>
              </a:path>
              <a:path fill="darkenLess" w="104672" h="21600">
                <a:moveTo>
                  <a:pt x="104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272" y="20200"/>
                </a:lnTo>
                <a:close/>
              </a:path>
              <a:path fill="lighten" w="104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38088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 1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2286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What a pickle! I am getting so many questions correc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2743200" cy="3085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6400800" y="9907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6400800" y="220968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" action="ppaction://hlinkshowjump?jump=nextslide"/>
          </p:cNvPr>
          <p:cNvSpPr/>
          <p:nvPr/>
        </p:nvSpPr>
        <p:spPr>
          <a:xfrm>
            <a:off x="6400800" y="46483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38088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2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 2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40384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0" y="1066680"/>
            <a:ext cx="8534520" cy="1752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ou passed with flying color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7315200" y="1752480"/>
            <a:ext cx="1114560" cy="44578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4572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3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>
            <a:hlinkClick r:id="rId1" action="ppaction://hlinksldjump"/>
          </p:cNvPr>
          <p:cNvSpPr/>
          <p:nvPr/>
        </p:nvSpPr>
        <p:spPr>
          <a:xfrm>
            <a:off x="6400800" y="9907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6400800" y="220968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Wr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" action="ppaction://hlinkshowjump?jump=nextslide"/>
          </p:cNvPr>
          <p:cNvSpPr/>
          <p:nvPr/>
        </p:nvSpPr>
        <p:spPr>
          <a:xfrm>
            <a:off x="6400800" y="46483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304920"/>
            <a:ext cx="8839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ain gau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tool used to measure the amount of rain that has fal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2743200" y="144792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43000" y="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 3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rId1" action="ppaction://hlinksldjump"/>
          </p:cNvPr>
          <p:cNvSpPr/>
          <p:nvPr/>
        </p:nvSpPr>
        <p:spPr>
          <a:xfrm>
            <a:off x="739152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38098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2362320" y="2133720"/>
            <a:ext cx="1309680" cy="301284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0" y="533520"/>
            <a:ext cx="8686800" cy="1941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o infinity and beyond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33" name=""/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57200" y="38088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4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5638680" y="1981080"/>
            <a:ext cx="3505320" cy="990720"/>
          </a:xfrm>
          <a:custGeom>
            <a:avLst/>
            <a:gdLst>
              <a:gd name="textAreaLeft" fmla="*/ 64080 w 3505320"/>
              <a:gd name="textAreaRight" fmla="*/ 3441240 w 3505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6404" h="21600">
                <a:moveTo>
                  <a:pt x="0" y="0"/>
                </a:moveTo>
                <a:lnTo>
                  <a:pt x="76404" y="0"/>
                </a:lnTo>
                <a:lnTo>
                  <a:pt x="76404" y="21600"/>
                </a:lnTo>
                <a:lnTo>
                  <a:pt x="0" y="21600"/>
                </a:lnTo>
                <a:close/>
              </a:path>
              <a:path fill="lightenLess" w="76404" h="21600">
                <a:moveTo>
                  <a:pt x="0" y="0"/>
                </a:moveTo>
                <a:lnTo>
                  <a:pt x="76404" y="0"/>
                </a:lnTo>
                <a:lnTo>
                  <a:pt x="75004" y="1400"/>
                </a:lnTo>
                <a:lnTo>
                  <a:pt x="1400" y="1400"/>
                </a:lnTo>
                <a:close/>
              </a:path>
              <a:path fill="darken" w="76404" h="21600">
                <a:moveTo>
                  <a:pt x="76404" y="0"/>
                </a:moveTo>
                <a:lnTo>
                  <a:pt x="76404" y="21600"/>
                </a:lnTo>
                <a:lnTo>
                  <a:pt x="75004" y="20200"/>
                </a:lnTo>
                <a:lnTo>
                  <a:pt x="75004" y="1400"/>
                </a:lnTo>
                <a:close/>
              </a:path>
              <a:path fill="darkenLess" w="76404" h="21600">
                <a:moveTo>
                  <a:pt x="76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004" y="20200"/>
                </a:lnTo>
                <a:close/>
              </a:path>
              <a:path fill="lighten" w="76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5638680" y="297180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" action="ppaction://hlinkshowjump?jump=nextslide"/>
          </p:cNvPr>
          <p:cNvSpPr/>
          <p:nvPr/>
        </p:nvSpPr>
        <p:spPr>
          <a:xfrm>
            <a:off x="5638680" y="3886200"/>
            <a:ext cx="3505320" cy="990720"/>
          </a:xfrm>
          <a:custGeom>
            <a:avLst/>
            <a:gdLst>
              <a:gd name="textAreaLeft" fmla="*/ 64080 w 3505320"/>
              <a:gd name="textAreaRight" fmla="*/ 3441240 w 3505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6404" h="21600">
                <a:moveTo>
                  <a:pt x="0" y="0"/>
                </a:moveTo>
                <a:lnTo>
                  <a:pt x="76404" y="0"/>
                </a:lnTo>
                <a:lnTo>
                  <a:pt x="76404" y="21600"/>
                </a:lnTo>
                <a:lnTo>
                  <a:pt x="0" y="21600"/>
                </a:lnTo>
                <a:close/>
              </a:path>
              <a:path fill="lightenLess" w="76404" h="21600">
                <a:moveTo>
                  <a:pt x="0" y="0"/>
                </a:moveTo>
                <a:lnTo>
                  <a:pt x="76404" y="0"/>
                </a:lnTo>
                <a:lnTo>
                  <a:pt x="75004" y="1400"/>
                </a:lnTo>
                <a:lnTo>
                  <a:pt x="1400" y="1400"/>
                </a:lnTo>
                <a:close/>
              </a:path>
              <a:path fill="darken" w="76404" h="21600">
                <a:moveTo>
                  <a:pt x="76404" y="0"/>
                </a:moveTo>
                <a:lnTo>
                  <a:pt x="76404" y="21600"/>
                </a:lnTo>
                <a:lnTo>
                  <a:pt x="75004" y="20200"/>
                </a:lnTo>
                <a:lnTo>
                  <a:pt x="75004" y="1400"/>
                </a:lnTo>
                <a:close/>
              </a:path>
              <a:path fill="darkenLess" w="76404" h="21600">
                <a:moveTo>
                  <a:pt x="76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004" y="20200"/>
                </a:lnTo>
                <a:close/>
              </a:path>
              <a:path fill="lighten" w="76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5638680" y="4876920"/>
            <a:ext cx="3505320" cy="990360"/>
          </a:xfrm>
          <a:custGeom>
            <a:avLst/>
            <a:gdLst>
              <a:gd name="textAreaLeft" fmla="*/ 64080 w 3505320"/>
              <a:gd name="textAreaRight" fmla="*/ 3441240 w 35053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76432" h="21600">
                <a:moveTo>
                  <a:pt x="0" y="0"/>
                </a:moveTo>
                <a:lnTo>
                  <a:pt x="76432" y="0"/>
                </a:lnTo>
                <a:lnTo>
                  <a:pt x="76432" y="21600"/>
                </a:lnTo>
                <a:lnTo>
                  <a:pt x="0" y="21600"/>
                </a:lnTo>
                <a:close/>
              </a:path>
              <a:path fill="lightenLess" w="76432" h="21600">
                <a:moveTo>
                  <a:pt x="0" y="0"/>
                </a:moveTo>
                <a:lnTo>
                  <a:pt x="76432" y="0"/>
                </a:lnTo>
                <a:lnTo>
                  <a:pt x="75032" y="1400"/>
                </a:lnTo>
                <a:lnTo>
                  <a:pt x="1400" y="1400"/>
                </a:lnTo>
                <a:close/>
              </a:path>
              <a:path fill="darken" w="76432" h="21600">
                <a:moveTo>
                  <a:pt x="76432" y="0"/>
                </a:moveTo>
                <a:lnTo>
                  <a:pt x="76432" y="21600"/>
                </a:lnTo>
                <a:lnTo>
                  <a:pt x="75032" y="20200"/>
                </a:lnTo>
                <a:lnTo>
                  <a:pt x="75032" y="1400"/>
                </a:lnTo>
                <a:close/>
              </a:path>
              <a:path fill="darkenLess" w="76432" h="21600">
                <a:moveTo>
                  <a:pt x="76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032" y="20200"/>
                </a:lnTo>
                <a:close/>
              </a:path>
              <a:path fill="lighten" w="76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57200" y="3808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swer 4 Topic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67816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1676520" y="2286000"/>
            <a:ext cx="5394240" cy="18003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0" y="609480"/>
            <a:ext cx="8915400" cy="1447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There's no place like hom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5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" action="ppaction://hlinkshowjump?jump=nextslide"/>
          </p:cNvPr>
          <p:cNvSpPr/>
          <p:nvPr/>
        </p:nvSpPr>
        <p:spPr>
          <a:xfrm>
            <a:off x="5943600" y="152388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5943600" y="25146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Wr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rId1" action="ppaction://hlinksldjump"/>
          </p:cNvPr>
          <p:cNvSpPr/>
          <p:nvPr/>
        </p:nvSpPr>
        <p:spPr>
          <a:xfrm>
            <a:off x="5943600" y="342900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>
            <a:hlinkClick r:id="" action="ppaction://hlinkshowjump?jump=nextslide"/>
          </p:cNvPr>
          <p:cNvSpPr/>
          <p:nvPr/>
        </p:nvSpPr>
        <p:spPr>
          <a:xfrm>
            <a:off x="5943600" y="4419720"/>
            <a:ext cx="3200400" cy="99036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69784" h="21600">
                <a:moveTo>
                  <a:pt x="0" y="0"/>
                </a:moveTo>
                <a:lnTo>
                  <a:pt x="69784" y="0"/>
                </a:lnTo>
                <a:lnTo>
                  <a:pt x="69784" y="21600"/>
                </a:lnTo>
                <a:lnTo>
                  <a:pt x="0" y="21600"/>
                </a:lnTo>
                <a:close/>
              </a:path>
              <a:path fill="lightenLess" w="69784" h="21600">
                <a:moveTo>
                  <a:pt x="0" y="0"/>
                </a:moveTo>
                <a:lnTo>
                  <a:pt x="69784" y="0"/>
                </a:lnTo>
                <a:lnTo>
                  <a:pt x="68384" y="1400"/>
                </a:lnTo>
                <a:lnTo>
                  <a:pt x="1400" y="1400"/>
                </a:lnTo>
                <a:close/>
              </a:path>
              <a:path fill="darken" w="69784" h="21600">
                <a:moveTo>
                  <a:pt x="69784" y="0"/>
                </a:moveTo>
                <a:lnTo>
                  <a:pt x="69784" y="21600"/>
                </a:lnTo>
                <a:lnTo>
                  <a:pt x="68384" y="20200"/>
                </a:lnTo>
                <a:lnTo>
                  <a:pt x="68384" y="1400"/>
                </a:lnTo>
                <a:close/>
              </a:path>
              <a:path fill="darkenLess" w="69784" h="21600">
                <a:moveTo>
                  <a:pt x="69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84" y="20200"/>
                </a:lnTo>
                <a:close/>
              </a:path>
              <a:path fill="lighten" w="69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swer 5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1523880" y="2133720"/>
            <a:ext cx="2586240" cy="27572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533520" y="228600"/>
            <a:ext cx="8076960" cy="1828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's up?  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5" name=""/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1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581280" y="2209680"/>
            <a:ext cx="2346480" cy="2167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143000" y="533520"/>
            <a:ext cx="6400800" cy="2133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ou're hammering away now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7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________ is a tool used to measure the temperatu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3505320" y="3886200"/>
            <a:ext cx="5638680" cy="990720"/>
          </a:xfrm>
          <a:custGeom>
            <a:avLst/>
            <a:gdLst>
              <a:gd name="textAreaLeft" fmla="*/ 64080 w 5638680"/>
              <a:gd name="textAreaRight" fmla="*/ 5574600 w 5638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22900" h="21600">
                <a:moveTo>
                  <a:pt x="0" y="0"/>
                </a:moveTo>
                <a:lnTo>
                  <a:pt x="122900" y="0"/>
                </a:lnTo>
                <a:lnTo>
                  <a:pt x="122900" y="21600"/>
                </a:lnTo>
                <a:lnTo>
                  <a:pt x="0" y="21600"/>
                </a:lnTo>
                <a:close/>
              </a:path>
              <a:path fill="lightenLess" w="122900" h="21600">
                <a:moveTo>
                  <a:pt x="0" y="0"/>
                </a:moveTo>
                <a:lnTo>
                  <a:pt x="122900" y="0"/>
                </a:lnTo>
                <a:lnTo>
                  <a:pt x="121500" y="1400"/>
                </a:lnTo>
                <a:lnTo>
                  <a:pt x="1400" y="1400"/>
                </a:lnTo>
                <a:close/>
              </a:path>
              <a:path fill="darken" w="122900" h="21600">
                <a:moveTo>
                  <a:pt x="122900" y="0"/>
                </a:moveTo>
                <a:lnTo>
                  <a:pt x="122900" y="21600"/>
                </a:lnTo>
                <a:lnTo>
                  <a:pt x="121500" y="20200"/>
                </a:lnTo>
                <a:lnTo>
                  <a:pt x="121500" y="1400"/>
                </a:lnTo>
                <a:close/>
              </a:path>
              <a:path fill="darkenLess" w="122900" h="21600">
                <a:moveTo>
                  <a:pt x="122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00" y="20200"/>
                </a:lnTo>
                <a:close/>
              </a:path>
              <a:path fill="lighten" w="122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Therm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3505320" y="5867280"/>
            <a:ext cx="5638680" cy="990720"/>
          </a:xfrm>
          <a:custGeom>
            <a:avLst/>
            <a:gdLst>
              <a:gd name="textAreaLeft" fmla="*/ 64080 w 5638680"/>
              <a:gd name="textAreaRight" fmla="*/ 5574600 w 5638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22900" h="21600">
                <a:moveTo>
                  <a:pt x="0" y="0"/>
                </a:moveTo>
                <a:lnTo>
                  <a:pt x="122900" y="0"/>
                </a:lnTo>
                <a:lnTo>
                  <a:pt x="122900" y="21600"/>
                </a:lnTo>
                <a:lnTo>
                  <a:pt x="0" y="21600"/>
                </a:lnTo>
                <a:close/>
              </a:path>
              <a:path fill="lightenLess" w="122900" h="21600">
                <a:moveTo>
                  <a:pt x="0" y="0"/>
                </a:moveTo>
                <a:lnTo>
                  <a:pt x="122900" y="0"/>
                </a:lnTo>
                <a:lnTo>
                  <a:pt x="121500" y="1400"/>
                </a:lnTo>
                <a:lnTo>
                  <a:pt x="1400" y="1400"/>
                </a:lnTo>
                <a:close/>
              </a:path>
              <a:path fill="darken" w="122900" h="21600">
                <a:moveTo>
                  <a:pt x="122900" y="0"/>
                </a:moveTo>
                <a:lnTo>
                  <a:pt x="122900" y="21600"/>
                </a:lnTo>
                <a:lnTo>
                  <a:pt x="121500" y="20200"/>
                </a:lnTo>
                <a:lnTo>
                  <a:pt x="121500" y="1400"/>
                </a:lnTo>
                <a:close/>
              </a:path>
              <a:path fill="darkenLess" w="122900" h="21600">
                <a:moveTo>
                  <a:pt x="122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00" y="20200"/>
                </a:lnTo>
                <a:close/>
              </a:path>
              <a:path fill="lighten" w="122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Bar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3505320" y="4876920"/>
            <a:ext cx="5638680" cy="990360"/>
          </a:xfrm>
          <a:custGeom>
            <a:avLst/>
            <a:gdLst>
              <a:gd name="textAreaLeft" fmla="*/ 64080 w 5638680"/>
              <a:gd name="textAreaRight" fmla="*/ 5574600 w 56386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22944" h="21600">
                <a:moveTo>
                  <a:pt x="0" y="0"/>
                </a:moveTo>
                <a:lnTo>
                  <a:pt x="122944" y="0"/>
                </a:lnTo>
                <a:lnTo>
                  <a:pt x="122944" y="21600"/>
                </a:lnTo>
                <a:lnTo>
                  <a:pt x="0" y="21600"/>
                </a:lnTo>
                <a:close/>
              </a:path>
              <a:path fill="lightenLess" w="122944" h="21600">
                <a:moveTo>
                  <a:pt x="0" y="0"/>
                </a:moveTo>
                <a:lnTo>
                  <a:pt x="122944" y="0"/>
                </a:lnTo>
                <a:lnTo>
                  <a:pt x="121544" y="1400"/>
                </a:lnTo>
                <a:lnTo>
                  <a:pt x="1400" y="1400"/>
                </a:lnTo>
                <a:close/>
              </a:path>
              <a:path fill="darken" w="122944" h="21600">
                <a:moveTo>
                  <a:pt x="122944" y="0"/>
                </a:moveTo>
                <a:lnTo>
                  <a:pt x="122944" y="21600"/>
                </a:lnTo>
                <a:lnTo>
                  <a:pt x="121544" y="20200"/>
                </a:lnTo>
                <a:lnTo>
                  <a:pt x="121544" y="1400"/>
                </a:lnTo>
                <a:close/>
              </a:path>
              <a:path fill="darkenLess" w="122944" h="21600">
                <a:moveTo>
                  <a:pt x="122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44" y="20200"/>
                </a:lnTo>
                <a:close/>
              </a:path>
              <a:path fill="lighten" w="122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Rain Ga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3505320" y="2895480"/>
            <a:ext cx="5638680" cy="990720"/>
          </a:xfrm>
          <a:custGeom>
            <a:avLst/>
            <a:gdLst>
              <a:gd name="textAreaLeft" fmla="*/ 64080 w 5638680"/>
              <a:gd name="textAreaRight" fmla="*/ 5574600 w 5638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22900" h="21600">
                <a:moveTo>
                  <a:pt x="0" y="0"/>
                </a:moveTo>
                <a:lnTo>
                  <a:pt x="122900" y="0"/>
                </a:lnTo>
                <a:lnTo>
                  <a:pt x="122900" y="21600"/>
                </a:lnTo>
                <a:lnTo>
                  <a:pt x="0" y="21600"/>
                </a:lnTo>
                <a:close/>
              </a:path>
              <a:path fill="lightenLess" w="122900" h="21600">
                <a:moveTo>
                  <a:pt x="0" y="0"/>
                </a:moveTo>
                <a:lnTo>
                  <a:pt x="122900" y="0"/>
                </a:lnTo>
                <a:lnTo>
                  <a:pt x="121500" y="1400"/>
                </a:lnTo>
                <a:lnTo>
                  <a:pt x="1400" y="1400"/>
                </a:lnTo>
                <a:close/>
              </a:path>
              <a:path fill="darken" w="122900" h="21600">
                <a:moveTo>
                  <a:pt x="122900" y="0"/>
                </a:moveTo>
                <a:lnTo>
                  <a:pt x="122900" y="21600"/>
                </a:lnTo>
                <a:lnTo>
                  <a:pt x="121500" y="20200"/>
                </a:lnTo>
                <a:lnTo>
                  <a:pt x="121500" y="1400"/>
                </a:lnTo>
                <a:close/>
              </a:path>
              <a:path fill="darkenLess" w="122900" h="21600">
                <a:moveTo>
                  <a:pt x="122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00" y="20200"/>
                </a:lnTo>
                <a:close/>
              </a:path>
              <a:path fill="lighten" w="122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Weather V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03:50:49Z</dcterms:created>
  <dc:creator>Obe Hostetter</dc:creator>
  <dc:description/>
  <dc:language>en-US</dc:language>
  <cp:lastModifiedBy>JFISHER</cp:lastModifiedBy>
  <dcterms:modified xsi:type="dcterms:W3CDTF">2010-02-25T22:36:59Z</dcterms:modified>
  <cp:revision>90</cp:revision>
  <dc:subject/>
  <dc:title>PowerPoint Presentation</dc:title>
</cp:coreProperties>
</file>